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B3B4-ECA0-4CB7-B045-F0E20026E3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3DE3-186D-4987-B53B-943472026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7E1-C4DB-4AA9-9993-2ECB2C20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1EF-C66E-4EC1-83D4-96F028B9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647-F269-4DBF-AC14-B40A7014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E16-39A4-47EB-8D7F-28CE95CE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DC7-F701-4623-9B55-DCF7401B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45B-CA7C-441A-85CF-23A90ADD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E63-49A9-455B-9F36-02839D96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31E-F989-4FBC-B8BE-866B77D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639-93C9-446D-8183-4089749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126-A93D-4955-AE74-D1535550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9BF-BB5A-4DF9-886E-5E830B90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71E-D0AD-4D13-9EE0-3A524DCC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B639-A809-42A2-8798-AD00A214C6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7"/>
          <p:cNvSpPr/>
          <p:nvPr/>
        </p:nvSpPr>
        <p:spPr>
          <a:xfrm>
            <a:off x="4572000" y="3043080"/>
            <a:ext cx="3886200" cy="10573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 city select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523880" y="1647720"/>
            <a:ext cx="3048120" cy="464832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376092"/>
          </a:solidFill>
          <a:ln w="76320">
            <a:solidFill>
              <a:srgbClr val="ffff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1523880" y="1647720"/>
            <a:ext cx="3048120" cy="464832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noFill/>
          <a:ln w="2844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red"/>
          <p:cNvPicPr/>
          <p:nvPr/>
        </p:nvPicPr>
        <p:blipFill>
          <a:blip r:embed="rId1"/>
          <a:stretch/>
        </p:blipFill>
        <p:spPr>
          <a:xfrm>
            <a:off x="1930320" y="4811760"/>
            <a:ext cx="88920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green"/>
          <p:cNvPicPr/>
          <p:nvPr/>
        </p:nvPicPr>
        <p:blipFill>
          <a:blip r:embed="rId2"/>
          <a:stretch/>
        </p:blipFill>
        <p:spPr>
          <a:xfrm>
            <a:off x="3276720" y="5076720"/>
            <a:ext cx="888840" cy="72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rple"/>
          <p:cNvPicPr/>
          <p:nvPr/>
        </p:nvPicPr>
        <p:blipFill>
          <a:blip r:embed="rId3"/>
          <a:stretch/>
        </p:blipFill>
        <p:spPr>
          <a:xfrm>
            <a:off x="2540160" y="2602080"/>
            <a:ext cx="888840" cy="722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Arial"/>
                <a:ea typeface="Arial"/>
              </a:rPr>
              <a:t>Capital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8"/>
          <p:cNvSpPr/>
          <p:nvPr/>
        </p:nvSpPr>
        <p:spPr>
          <a:xfrm>
            <a:off x="2943360" y="2900520"/>
            <a:ext cx="65700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9"/>
          <p:cNvSpPr/>
          <p:nvPr/>
        </p:nvSpPr>
        <p:spPr>
          <a:xfrm>
            <a:off x="3638520" y="5367240"/>
            <a:ext cx="65736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2324160" y="5038560"/>
            <a:ext cx="65700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49:34Z</dcterms:created>
  <dc:creator>JohnnyW</dc:creator>
  <dc:description/>
  <dc:language>en-US</dc:language>
  <cp:lastModifiedBy>JohnnyW</cp:lastModifiedBy>
  <dcterms:modified xsi:type="dcterms:W3CDTF">2009-09-15T08:02:19Z</dcterms:modified>
  <cp:revision>1</cp:revision>
  <dc:subject/>
  <dc:title>Capital Cities</dc:title>
</cp:coreProperties>
</file>