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822-DAE0-48A1-B9FB-9563A4C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357-5779-4EEB-AD5D-2DE985D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52E-A67B-4E7A-9F86-F97FC026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680-B2EB-42C1-9326-84C2F633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1A7-6E5C-4358-BAD6-5CFBBB1A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EF9-5851-4D58-984A-6CFD7B85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4F5-0754-40A4-A9CF-85D36FC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C46-DA6C-43A4-9E8E-0D90C8E5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688-B870-4232-A90B-1417B680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792-EAC0-4730-AD00-215D640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E93-AD15-496E-B0C4-EA1665C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4F5-6F63-4AC3-8672-0DD02C92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EF9-E701-4C0B-8E98-D2F4629706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boots.png"/>
          <p:cNvPicPr/>
          <p:nvPr/>
        </p:nvPicPr>
        <p:blipFill>
          <a:blip r:embed="rId1"/>
          <a:stretch/>
        </p:blipFill>
        <p:spPr>
          <a:xfrm>
            <a:off x="2031840" y="888840"/>
            <a:ext cx="5080320" cy="5080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572080" y="785880"/>
            <a:ext cx="292896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is is a boo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ounded Rectangle 5"/>
          <p:cNvSpPr/>
          <p:nvPr/>
        </p:nvSpPr>
        <p:spPr>
          <a:xfrm>
            <a:off x="7358040" y="5643720"/>
            <a:ext cx="135720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R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2:20:40Z</dcterms:created>
  <dc:creator>John Wilson</dc:creator>
  <dc:description/>
  <dc:language>en-US</dc:language>
  <cp:lastModifiedBy>John Wilson</cp:lastModifiedBy>
  <dcterms:modified xsi:type="dcterms:W3CDTF">2008-01-07T22:23:55Z</dcterms:modified>
  <cp:revision>1</cp:revision>
  <dc:subject/>
  <dc:title>Slide 1</dc:title>
</cp:coreProperties>
</file>