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2313D-2146-4104-A96D-FA6DCDD81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8EB1-154D-4219-A255-F6428505E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6DD9-75FD-450A-ACD7-2D69A21E9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E4A9-038F-4353-B826-E56F42114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D901-3026-41A0-95A9-1C59A9A34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6F24-0818-40FB-B236-181E85F42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7706-15DE-4EF0-87F6-8CA65CC3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8066-FB33-487F-A0BD-B15339FA3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0FD8-0C59-43A4-BC5E-548031BC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B142-FE7D-4AF7-B1F1-0B87D501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9E28A-57E1-4742-91A1-9C131D87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109E-2C71-41EC-8AFF-82F9F004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D18CC-FA84-4BB2-A522-C4BF716EC0A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7743 -0.38819 E">
                                      <p:cBhvr>
                                        <p:cTn id="8" dur="1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100" fill="hold"/>
                                        <p:tgtEl>
                                          <p:spTgt spid="43"/>
                                        </p:tgtEl>
                                      </p:cBhvr>
                                      <p:to x="25000" y="2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7743 -0.38819 L -0.00087 -0.00347 E">
                                      <p:cBhvr>
                                        <p:cTn id="17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6T15:37:54Z</dcterms:created>
  <dc:creator>John Wilson</dc:creator>
  <dc:description/>
  <dc:language>en-US</dc:language>
  <cp:lastModifiedBy>John Wilson</cp:lastModifiedBy>
  <dcterms:modified xsi:type="dcterms:W3CDTF">2007-09-26T16:10:03Z</dcterms:modified>
  <cp:revision>4</cp:revision>
  <dc:subject/>
  <dc:title>Slide 1</dc:title>
</cp:coreProperties>
</file>