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344-B493-43F7-A852-15A2B0C6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479-D6E1-4337-A0FC-2446CDAB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ADC-49B3-463D-8FE3-13094543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2C7-1E96-4DD7-A9C7-80693ED4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A9C-DEAB-4898-95C4-2AC17AE6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1B0-FC9B-44B2-BC2B-C2577AA4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233-BF8A-413F-ACC1-8DB19BDF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EEC-6FD0-413B-909B-7DFC1542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6F4-4DAB-46CC-8684-3D45AC5F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022-21F4-400E-81F2-469B9170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EEF-1EBC-4F62-A705-B060EB90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3C8-B36D-4DC7-B052-4A599FD2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AA6C-F77D-42A7-9FE8-1740335A930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6" descr="winter.pn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2072880" y="21420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ample of Snagit Torn 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4:59:17Z</dcterms:created>
  <dc:creator>John Wilson</dc:creator>
  <dc:description/>
  <dc:language>en-US</dc:language>
  <cp:lastModifiedBy>John Wilson</cp:lastModifiedBy>
  <dcterms:modified xsi:type="dcterms:W3CDTF">2008-08-14T15:07:16Z</dcterms:modified>
  <cp:revision>1</cp:revision>
  <dc:subject/>
  <dc:title>Slide 1</dc:title>
</cp:coreProperties>
</file>