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B3B-C0E7-4ED3-B4AC-C738564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27A-7637-4628-987E-E7DB6C2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47F-2191-4B9B-9BA0-28805D1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98D-4BF6-4ED1-BC16-3F2178CF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71D-D804-4DEE-9640-8B77CA4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689-28B7-48CB-8BB4-95D3154A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040-3807-4BE1-87F4-0CF51EF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29A-BEEC-4463-98C0-1FE1555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C78-24B2-4F0D-8CEE-39B0CA8E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C72-C78A-4515-96F5-A42A04C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DC5-4B29-4346-8C1A-8F3A4D2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4A3-C48B-4E5C-AE20-5FAD684B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F2A5-6395-4362-B103-E589A184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.35694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3:55:24Z</dcterms:created>
  <dc:creator>John Wilson</dc:creator>
  <dc:description/>
  <dc:language>en-US</dc:language>
  <cp:lastModifiedBy>John Wilson</cp:lastModifiedBy>
  <dcterms:modified xsi:type="dcterms:W3CDTF">2007-04-03T14:00:32Z</dcterms:modified>
  <cp:revision>1</cp:revision>
  <dc:subject/>
  <dc:title>Slide 1</dc:title>
</cp:coreProperties>
</file>