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333-9836-4E60-93E4-52740524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5AD-EB57-41E6-BFBF-765659BC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DDC-35FC-4CB6-BDD1-DFEFD23B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4FE-E1D0-47C0-A561-FBDAD898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0D4-52E3-44A6-A81C-C27907E5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0B8-08E9-409D-BD8A-E4A8526F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EEB-24DE-4C1A-B999-D6647718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3D7-920E-439F-A106-B24EB410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F16-0E60-493F-B5EB-40C9A199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5FE-E7E5-4FD0-B281-6BCB98D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ED2-2282-4C3B-896B-4412168F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480-82F8-4C03-B9CB-F811FA10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38AD-1103-49FE-80A8-444E68DA91E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Oval 7"/>
          <p:cNvGrpSpPr/>
          <p:nvPr/>
        </p:nvGrpSpPr>
        <p:grpSpPr>
          <a:xfrm>
            <a:off x="2408400" y="1122480"/>
            <a:ext cx="4327200" cy="4327560"/>
            <a:chOff x="2408400" y="1122480"/>
            <a:chExt cx="4327200" cy="4327560"/>
          </a:xfrm>
        </p:grpSpPr>
        <p:pic>
          <p:nvPicPr>
            <p:cNvPr id="43" name="Oval 7" descr=""/>
            <p:cNvPicPr/>
            <p:nvPr/>
          </p:nvPicPr>
          <p:blipFill>
            <a:blip r:embed="rId1"/>
            <a:stretch/>
          </p:blipFill>
          <p:spPr>
            <a:xfrm>
              <a:off x="2408400" y="1122480"/>
              <a:ext cx="4327200" cy="43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056040" y="1770120"/>
              <a:ext cx="3031920" cy="30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3"/>
          <p:cNvGrpSpPr/>
          <p:nvPr/>
        </p:nvGrpSpPr>
        <p:grpSpPr>
          <a:xfrm>
            <a:off x="4357800" y="1428840"/>
            <a:ext cx="428400" cy="3714120"/>
            <a:chOff x="4357800" y="1428840"/>
            <a:chExt cx="428400" cy="3714120"/>
          </a:xfrm>
        </p:grpSpPr>
        <p:sp>
          <p:nvSpPr>
            <p:cNvPr id="46" name="Up Arrow 1"/>
            <p:cNvSpPr/>
            <p:nvPr/>
          </p:nvSpPr>
          <p:spPr>
            <a:xfrm>
              <a:off x="4357800" y="1428840"/>
              <a:ext cx="428400" cy="1857240"/>
            </a:xfrm>
            <a:prstGeom prst="upArrow">
              <a:avLst>
                <a:gd name="adj1" fmla="val 50000"/>
                <a:gd name="adj2" fmla="val 5001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Up Arrow 2"/>
            <p:cNvSpPr/>
            <p:nvPr/>
          </p:nvSpPr>
          <p:spPr>
            <a:xfrm rot="10800000">
              <a:off x="4357800" y="3285720"/>
              <a:ext cx="428400" cy="1857240"/>
            </a:xfrm>
            <a:prstGeom prst="upArrow">
              <a:avLst>
                <a:gd name="adj1" fmla="val 50000"/>
                <a:gd name="adj2" fmla="val 500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TextBox 8"/>
          <p:cNvSpPr/>
          <p:nvPr/>
        </p:nvSpPr>
        <p:spPr>
          <a:xfrm>
            <a:off x="2786040" y="600084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It’s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4429080" y="1071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6286680" y="3143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4429080" y="4987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2500200" y="3071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2786040" y="2214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3286080" y="15717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5429160" y="15717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6072120" y="2357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6072120" y="38577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2"/>
          <p:cNvSpPr/>
          <p:nvPr/>
        </p:nvSpPr>
        <p:spPr>
          <a:xfrm>
            <a:off x="5500800" y="45720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3357720" y="45720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271476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Random Ch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ction Button: Custom 26">
            <a:hlinkClick r:id="" action="ppaction://hlinkshowjump?jump=previousslide"/>
          </p:cNvPr>
          <p:cNvSpPr/>
          <p:nvPr/>
        </p:nvSpPr>
        <p:spPr>
          <a:xfrm>
            <a:off x="7572240" y="6143760"/>
            <a:ext cx="1285920" cy="500040"/>
          </a:xfrm>
          <a:custGeom>
            <a:avLst/>
            <a:gdLst>
              <a:gd name="textAreaLeft" fmla="*/ 32400 w 1285920"/>
              <a:gd name="textAreaRight" fmla="*/ 1253520 w 12859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55523" h="21600">
                <a:moveTo>
                  <a:pt x="0" y="0"/>
                </a:moveTo>
                <a:lnTo>
                  <a:pt x="55523" y="0"/>
                </a:lnTo>
                <a:lnTo>
                  <a:pt x="55523" y="21600"/>
                </a:lnTo>
                <a:lnTo>
                  <a:pt x="0" y="21600"/>
                </a:lnTo>
                <a:close/>
              </a:path>
              <a:path fill="lightenLess" w="55523" h="21600">
                <a:moveTo>
                  <a:pt x="0" y="0"/>
                </a:moveTo>
                <a:lnTo>
                  <a:pt x="55523" y="0"/>
                </a:lnTo>
                <a:lnTo>
                  <a:pt x="54123" y="1400"/>
                </a:lnTo>
                <a:lnTo>
                  <a:pt x="1400" y="1400"/>
                </a:lnTo>
                <a:close/>
              </a:path>
              <a:path fill="darken" w="55523" h="21600">
                <a:moveTo>
                  <a:pt x="55523" y="0"/>
                </a:moveTo>
                <a:lnTo>
                  <a:pt x="55523" y="21600"/>
                </a:lnTo>
                <a:lnTo>
                  <a:pt x="54123" y="20200"/>
                </a:lnTo>
                <a:lnTo>
                  <a:pt x="54123" y="1400"/>
                </a:lnTo>
                <a:close/>
              </a:path>
              <a:path fill="darkenLess" w="55523" h="21600">
                <a:moveTo>
                  <a:pt x="5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3" y="20200"/>
                </a:lnTo>
                <a:close/>
              </a:path>
              <a:path fill="lighten" w="5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t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7545240" y="5429160"/>
            <a:ext cx="128592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" dur="1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7:42:16Z</dcterms:created>
  <dc:creator>John Wilson</dc:creator>
  <dc:description/>
  <dc:language>en-US</dc:language>
  <cp:lastModifiedBy>John Wilson</cp:lastModifiedBy>
  <dcterms:modified xsi:type="dcterms:W3CDTF">2007-11-19T08:12:14Z</dcterms:modified>
  <cp:revision>3</cp:revision>
  <dc:subject/>
  <dc:title>Slide 1</dc:title>
</cp:coreProperties>
</file>