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333-B87B-4BB1-8372-731455A9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FA1-4688-4A43-8B9D-969FDD2F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F1E-78AC-465D-93A6-EF5C2D7E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ADC-F8DB-4288-A2D3-9D4801A8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772-AAB6-412A-AE3A-FA34B03A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C2F-0A74-4894-9BC9-2A9FB160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8B6-E1B6-4549-9224-CDB861F7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92D-2C46-42CD-BF83-55064855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3FD-6C11-4D62-9D49-372D29F3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DBA-7720-49FC-9958-AB0026E5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6B9-A40E-432C-83F1-09CC0281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FD2-614D-4B19-AF1A-E5AE1CC2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73BE-D6B0-4F9B-8036-F92EB04935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071720" y="1857240"/>
            <a:ext cx="1285560" cy="128592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428920" y="1857240"/>
            <a:ext cx="1285920" cy="12859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786120" y="1857240"/>
            <a:ext cx="1285920" cy="128592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Ja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5143680" y="1857240"/>
            <a:ext cx="1285560" cy="128592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e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500880" y="1857240"/>
            <a:ext cx="1285920" cy="128592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071720" y="357120"/>
            <a:ext cx="1285560" cy="128592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428920" y="357120"/>
            <a:ext cx="1285920" cy="128592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786120" y="357120"/>
            <a:ext cx="1285920" cy="128592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5143680" y="357120"/>
            <a:ext cx="1285560" cy="128592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Jen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500880" y="357120"/>
            <a:ext cx="1285920" cy="128592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Isosceles Triangle 8"/>
          <p:cNvSpPr/>
          <p:nvPr/>
        </p:nvSpPr>
        <p:spPr>
          <a:xfrm>
            <a:off x="6786720" y="6000840"/>
            <a:ext cx="1571400" cy="5000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o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5:21:48Z</dcterms:created>
  <dc:creator>John Wilson</dc:creator>
  <dc:description/>
  <dc:language>en-US</dc:language>
  <cp:lastModifiedBy>John Wilson</cp:lastModifiedBy>
  <dcterms:modified xsi:type="dcterms:W3CDTF">2007-12-13T15:36:04Z</dcterms:modified>
  <cp:revision>2</cp:revision>
  <dc:subject/>
  <dc:title>Slide 1</dc:title>
</cp:coreProperties>
</file>