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092-DCA4-4409-AF4C-21DA7FC7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0A8-8E51-4283-9AA6-FC6E1D9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2AC-530F-4B1D-A79B-EF00FE20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35D-BBA2-4FC7-8973-64FC3DB7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AEE-6705-4F64-9383-2DA6F7F8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D03-7BA1-445A-B671-728B869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5B9-D58B-4799-B429-C6BDD481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7ED-A034-42F0-AC81-B6807A87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FF2-5A30-4845-9AFC-ABD5490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8B3-391C-4AB6-9266-D9A544C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C33-1D56-4ADB-A40E-954A018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BF3-66E2-4D73-AFF6-7758BAD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F24-33B4-49D2-B29A-147659CA5B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the first slide with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 an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 an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the "real" slid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 an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 an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Action Button: Back or Previous 4">
            <a:hlinkClick r:id="rId2" action="ppaction://hlinksldjump"/>
          </p:cNvPr>
          <p:cNvSpPr/>
          <p:nvPr/>
        </p:nvSpPr>
        <p:spPr>
          <a:xfrm>
            <a:off x="7786800" y="6286680"/>
            <a:ext cx="785880" cy="357120"/>
          </a:xfrm>
          <a:custGeom>
            <a:avLst/>
            <a:gdLst>
              <a:gd name="textAreaLeft" fmla="*/ 23040 w 785880"/>
              <a:gd name="textAreaRight" fmla="*/ 762840 w 785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507" h="21600">
                <a:moveTo>
                  <a:pt x="0" y="0"/>
                </a:moveTo>
                <a:lnTo>
                  <a:pt x="47507" y="0"/>
                </a:lnTo>
                <a:lnTo>
                  <a:pt x="47507" y="21600"/>
                </a:lnTo>
                <a:lnTo>
                  <a:pt x="0" y="21600"/>
                </a:lnTo>
                <a:close/>
              </a:path>
              <a:path fill="lightenLess" w="47507" h="21600">
                <a:moveTo>
                  <a:pt x="0" y="0"/>
                </a:moveTo>
                <a:lnTo>
                  <a:pt x="47507" y="0"/>
                </a:lnTo>
                <a:lnTo>
                  <a:pt x="46107" y="1400"/>
                </a:lnTo>
                <a:lnTo>
                  <a:pt x="1400" y="1400"/>
                </a:lnTo>
                <a:close/>
              </a:path>
              <a:path fill="darken" w="47507" h="21600">
                <a:moveTo>
                  <a:pt x="47507" y="0"/>
                </a:moveTo>
                <a:lnTo>
                  <a:pt x="47507" y="21600"/>
                </a:lnTo>
                <a:lnTo>
                  <a:pt x="46107" y="20200"/>
                </a:lnTo>
                <a:lnTo>
                  <a:pt x="46107" y="1400"/>
                </a:lnTo>
                <a:close/>
              </a:path>
              <a:path fill="darkenLess" w="47507" h="21600">
                <a:moveTo>
                  <a:pt x="47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7" y="20200"/>
                </a:lnTo>
                <a:close/>
              </a:path>
              <a:path fill="lighten" w="47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7" h="21600">
                <a:moveTo>
                  <a:pt x="16747" y="10800"/>
                </a:moveTo>
                <a:lnTo>
                  <a:pt x="30760" y="3794"/>
                </a:lnTo>
                <a:lnTo>
                  <a:pt x="307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715000" y="55008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utton hyperlinks to Slide 1- NOT 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0:20:19Z</dcterms:created>
  <dc:creator>John Wilson</dc:creator>
  <dc:description/>
  <dc:language>en-US</dc:language>
  <cp:lastModifiedBy>John Wilson</cp:lastModifiedBy>
  <dcterms:modified xsi:type="dcterms:W3CDTF">2008-01-29T10:23:44Z</dcterms:modified>
  <cp:revision>1</cp:revision>
  <dc:subject/>
  <dc:title>Slide 1</dc:title>
</cp:coreProperties>
</file>