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2F47D-CBC9-413F-86F8-BDE506032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E7AF2-AEE8-4D85-8925-1BFE6CEF0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4E8D0-F077-422A-9FE8-C5AE23246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14296-5C19-4694-9B27-A26806F1F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2B4E3-7C38-4B81-8C94-A3ABAEE00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A6BAB-A7F9-4E47-AE27-C70E4D2C7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7A37B-D849-412B-94F7-9E4D398FF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2A225-ED82-4E4D-A988-35C824DD9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CE3C6-4747-415F-8C93-966999336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55228-3119-4FAD-B40E-4E4F0F472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8902D-B3DB-42E0-BBD4-1D0D43C49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00F82-D16C-4999-916B-B34D97173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E7883-CD39-405B-A17A-B900DBE70C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187280" y="1052640"/>
            <a:ext cx="2337120" cy="361944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4859280" y="907920"/>
            <a:ext cx="2887560" cy="44024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1187280" y="1052640"/>
            <a:ext cx="233712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indefinite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3T06:01:19Z</dcterms:created>
  <dc:creator>Technology Trish</dc:creator>
  <dc:description/>
  <dc:language>en-US</dc:language>
  <cp:lastModifiedBy>Technology Trish</cp:lastModifiedBy>
  <dcterms:modified xsi:type="dcterms:W3CDTF">2007-02-13T06:16:52Z</dcterms:modified>
  <cp:revision>2</cp:revision>
  <dc:subject/>
  <dc:title>Slide 1</dc:title>
</cp:coreProperties>
</file>