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FDF5A-2DC0-4BF1-8AAB-18EF16EE5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428B9-DFCE-403F-8CA0-665D063F7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E1ACA-2F7A-49D7-ADB6-C48C55B0B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24560-CFF2-4E52-A907-8E1CA1BCC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69FC4-8F26-4CE5-AEBE-CC8403532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DA6E8-8B27-4384-A05E-D61726B3A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4F351-0FE7-491B-9118-44C587118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9AC2B-0C1E-45CB-BE71-AF9B6E6A0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4973D-2C73-4065-A26E-35DC1A655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9875F-7AE2-41FB-968D-EA9409478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A34AA-057D-4635-A113-7CA595C78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4365D-0386-46BC-895F-9642B30F3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66265-A151-4BEC-9026-57B6493F0A35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ball"/>
          <p:cNvSpPr/>
          <p:nvPr/>
        </p:nvSpPr>
        <p:spPr>
          <a:xfrm rot="5400000">
            <a:off x="2698560" y="658800"/>
            <a:ext cx="500040" cy="50004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own"/>
          <p:cNvSpPr/>
          <p:nvPr/>
        </p:nvSpPr>
        <p:spPr>
          <a:xfrm>
            <a:off x="6929280" y="5715000"/>
            <a:ext cx="714600" cy="6429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ight"/>
          <p:cNvSpPr/>
          <p:nvPr/>
        </p:nvSpPr>
        <p:spPr>
          <a:xfrm rot="16200000">
            <a:off x="7608240" y="5107680"/>
            <a:ext cx="714240" cy="6429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up"/>
          <p:cNvSpPr/>
          <p:nvPr/>
        </p:nvSpPr>
        <p:spPr>
          <a:xfrm rot="10800000">
            <a:off x="6928920" y="4500720"/>
            <a:ext cx="714600" cy="6429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left"/>
          <p:cNvSpPr/>
          <p:nvPr/>
        </p:nvSpPr>
        <p:spPr>
          <a:xfrm rot="5400000">
            <a:off x="6250320" y="5107680"/>
            <a:ext cx="714240" cy="6426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6T08:53:15Z</dcterms:created>
  <dc:creator>John Wilson</dc:creator>
  <dc:description/>
  <dc:language>en-US</dc:language>
  <cp:lastModifiedBy>John Wilson</cp:lastModifiedBy>
  <dcterms:modified xsi:type="dcterms:W3CDTF">2008-06-06T09:55:06Z</dcterms:modified>
  <cp:revision>7</cp:revision>
  <dc:subject/>
  <dc:title>Slide 1</dc:title>
</cp:coreProperties>
</file>