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B9C-B406-4B57-9B71-03AF0EAF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A13-1F01-4EBD-8D80-1A9359A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AF4-5563-464C-9CAF-2CB9E2E7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41A-2E13-46AE-8DE7-972B3834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79D-240E-4CEC-8338-D635C3ED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383-92D1-4DFD-8611-EA9D908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0DD-A2DF-4337-9A12-2FAD11BD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1A0-F4E2-4776-B952-221CFA63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C92-89B6-4B3C-9DAC-C05D9FF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7AA-9285-4DFB-B5EA-D0A9BBA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682-10FF-4EE3-8E52-0370C79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4F0-E89F-432C-815B-40F8FB2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B0E8-F566-482D-BE73-37F8FE41AF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miley Face 18"/>
          <p:cNvSpPr/>
          <p:nvPr/>
        </p:nvSpPr>
        <p:spPr>
          <a:xfrm>
            <a:off x="838080" y="6858000"/>
            <a:ext cx="609840" cy="4572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miley Face 19"/>
          <p:cNvSpPr/>
          <p:nvPr/>
        </p:nvSpPr>
        <p:spPr>
          <a:xfrm>
            <a:off x="1219320" y="609480"/>
            <a:ext cx="2057400" cy="1981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Triangle 20"/>
          <p:cNvSpPr/>
          <p:nvPr/>
        </p:nvSpPr>
        <p:spPr>
          <a:xfrm rot="10800000">
            <a:off x="6477120" y="0"/>
            <a:ext cx="2666880" cy="22860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1"/>
          <p:cNvSpPr/>
          <p:nvPr/>
        </p:nvSpPr>
        <p:spPr>
          <a:xfrm>
            <a:off x="5181480" y="1981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use Over Top Right Cor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2"/>
          <p:cNvSpPr/>
          <p:nvPr/>
        </p:nvSpPr>
        <p:spPr>
          <a:xfrm>
            <a:off x="3662280" y="36576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GAI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429000" y="4343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AGAI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8:15:27Z</dcterms:created>
  <dc:creator>John</dc:creator>
  <dc:description/>
  <dc:language>en-US</dc:language>
  <cp:lastModifiedBy>John</cp:lastModifiedBy>
  <dcterms:modified xsi:type="dcterms:W3CDTF">2010-07-27T08:56:28Z</dcterms:modified>
  <cp:revision>5</cp:revision>
  <dc:subject/>
  <dc:title>Slide 1</dc:title>
</cp:coreProperties>
</file>