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DBDE-F8FA-47F8-95B6-10F73D80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08E-D288-44C1-9D09-569F8F41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AFFC-5B2E-4F59-BD63-619E3135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2B9-D835-4810-B5E9-EADC73D2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003-DBFE-47EF-BC3B-250DB2A2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F14-4346-4E14-B419-7F14E514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6D5-B2DC-4521-94E0-9017A403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FEC-908D-4876-A7B0-09FD30A1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46A3-9FDA-401E-A20C-42639961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912-DE78-49F0-931A-6E2B045F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AC30-7CC0-4422-AEF6-E64C88F0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0B1-3487-4F2C-B452-0647C225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C046-974E-475F-95EB-DCE6438F901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image" Target="../media/image4.png"/><Relationship Id="rId23" Type="http://schemas.openxmlformats.org/officeDocument/2006/relationships/image" Target="../media/image1.png"/><Relationship Id="rId24" Type="http://schemas.openxmlformats.org/officeDocument/2006/relationships/image" Target="../media/image4.png"/><Relationship Id="rId25" Type="http://schemas.openxmlformats.org/officeDocument/2006/relationships/image" Target="../media/image1.png"/><Relationship Id="rId26" Type="http://schemas.openxmlformats.org/officeDocument/2006/relationships/image" Target="../media/image4.png"/><Relationship Id="rId27" Type="http://schemas.openxmlformats.org/officeDocument/2006/relationships/image" Target="../media/image1.png"/><Relationship Id="rId28" Type="http://schemas.openxmlformats.org/officeDocument/2006/relationships/image" Target="../media/image4.png"/><Relationship Id="rId29" Type="http://schemas.openxmlformats.org/officeDocument/2006/relationships/image" Target="../media/image1.png"/><Relationship Id="rId30" Type="http://schemas.openxmlformats.org/officeDocument/2006/relationships/image" Target="../media/image4.png"/><Relationship Id="rId31" Type="http://schemas.openxmlformats.org/officeDocument/2006/relationships/image" Target="../media/image1.png"/><Relationship Id="rId32" Type="http://schemas.openxmlformats.org/officeDocument/2006/relationships/image" Target="../media/image4.png"/><Relationship Id="rId33" Type="http://schemas.openxmlformats.org/officeDocument/2006/relationships/image" Target="../media/image3.png"/><Relationship Id="rId34" Type="http://schemas.openxmlformats.org/officeDocument/2006/relationships/image" Target="../media/image4.png"/><Relationship Id="rId35" Type="http://schemas.openxmlformats.org/officeDocument/2006/relationships/image" Target="../media/image1.png"/><Relationship Id="rId36" Type="http://schemas.openxmlformats.org/officeDocument/2006/relationships/image" Target="../media/image4.png"/><Relationship Id="rId37" Type="http://schemas.openxmlformats.org/officeDocument/2006/relationships/image" Target="../media/image1.png"/><Relationship Id="rId38" Type="http://schemas.openxmlformats.org/officeDocument/2006/relationships/image" Target="../media/image4.png"/><Relationship Id="rId39" Type="http://schemas.openxmlformats.org/officeDocument/2006/relationships/image" Target="../media/image3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2.png"/><Relationship Id="rId43" Type="http://schemas.openxmlformats.org/officeDocument/2006/relationships/image" Target="../media/image1.png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image" Target="../media/image2.png"/><Relationship Id="rId47" Type="http://schemas.openxmlformats.org/officeDocument/2006/relationships/image" Target="../media/image1.png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5.png"/><Relationship Id="rId51" Type="http://schemas.openxmlformats.org/officeDocument/2006/relationships/image" Target="../media/image1.png"/><Relationship Id="rId52" Type="http://schemas.openxmlformats.org/officeDocument/2006/relationships/image" Target="../media/image2.png"/><Relationship Id="rId5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1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611280" y="333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eparing Gam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6"/>
          <p:cNvGrpSpPr/>
          <p:nvPr/>
        </p:nvGrpSpPr>
        <p:grpSpPr>
          <a:xfrm>
            <a:off x="264960" y="4059360"/>
            <a:ext cx="838440" cy="850680"/>
            <a:chOff x="264960" y="4059360"/>
            <a:chExt cx="838440" cy="850680"/>
          </a:xfrm>
        </p:grpSpPr>
        <p:sp>
          <p:nvSpPr>
            <p:cNvPr id="44" name="Freeform 155"/>
            <p:cNvSpPr/>
            <p:nvPr/>
          </p:nvSpPr>
          <p:spPr>
            <a:xfrm>
              <a:off x="264960" y="4059360"/>
              <a:ext cx="829080" cy="84348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Freeform 156"/>
            <p:cNvGrpSpPr/>
            <p:nvPr/>
          </p:nvGrpSpPr>
          <p:grpSpPr>
            <a:xfrm>
              <a:off x="316080" y="4071960"/>
              <a:ext cx="787320" cy="838080"/>
              <a:chOff x="316080" y="4071960"/>
              <a:chExt cx="787320" cy="838080"/>
            </a:xfrm>
          </p:grpSpPr>
          <p:pic>
            <p:nvPicPr>
              <p:cNvPr id="46" name="Freeform 156" descr=""/>
              <p:cNvPicPr/>
              <p:nvPr/>
            </p:nvPicPr>
            <p:blipFill>
              <a:blip r:embed="rId1"/>
              <a:stretch/>
            </p:blipFill>
            <p:spPr>
              <a:xfrm>
                <a:off x="316080" y="4071960"/>
                <a:ext cx="78732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323280" y="4078800"/>
                <a:ext cx="774360" cy="8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Key_Q"/>
          <p:cNvGrpSpPr/>
          <p:nvPr/>
        </p:nvGrpSpPr>
        <p:grpSpPr>
          <a:xfrm>
            <a:off x="360360" y="4151160"/>
            <a:ext cx="657000" cy="706680"/>
            <a:chOff x="360360" y="4151160"/>
            <a:chExt cx="657000" cy="706680"/>
          </a:xfrm>
        </p:grpSpPr>
        <p:pic>
          <p:nvPicPr>
            <p:cNvPr id="49" name="Key_Q" descr=""/>
            <p:cNvPicPr/>
            <p:nvPr/>
          </p:nvPicPr>
          <p:blipFill>
            <a:blip r:embed="rId2"/>
            <a:stretch/>
          </p:blipFill>
          <p:spPr>
            <a:xfrm>
              <a:off x="360360" y="4152240"/>
              <a:ext cx="654480" cy="7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61440" y="4151160"/>
              <a:ext cx="65592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Q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Group 81"/>
          <p:cNvGrpSpPr/>
          <p:nvPr/>
        </p:nvGrpSpPr>
        <p:grpSpPr>
          <a:xfrm>
            <a:off x="1125360" y="4059360"/>
            <a:ext cx="838440" cy="850680"/>
            <a:chOff x="1125360" y="4059360"/>
            <a:chExt cx="838440" cy="850680"/>
          </a:xfrm>
        </p:grpSpPr>
        <p:sp>
          <p:nvSpPr>
            <p:cNvPr id="52" name="Freeform 155"/>
            <p:cNvSpPr/>
            <p:nvPr/>
          </p:nvSpPr>
          <p:spPr>
            <a:xfrm>
              <a:off x="1125360" y="4059360"/>
              <a:ext cx="829800" cy="84348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" name="Freeform 156"/>
            <p:cNvGrpSpPr/>
            <p:nvPr/>
          </p:nvGrpSpPr>
          <p:grpSpPr>
            <a:xfrm>
              <a:off x="1175760" y="4071960"/>
              <a:ext cx="788040" cy="838080"/>
              <a:chOff x="1175760" y="4071960"/>
              <a:chExt cx="788040" cy="838080"/>
            </a:xfrm>
          </p:grpSpPr>
          <p:pic>
            <p:nvPicPr>
              <p:cNvPr id="54" name="Freeform 15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75760" y="4071960"/>
                <a:ext cx="78804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183680" y="4078800"/>
                <a:ext cx="775080" cy="8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6" name="Key_W"/>
          <p:cNvGrpSpPr/>
          <p:nvPr/>
        </p:nvGrpSpPr>
        <p:grpSpPr>
          <a:xfrm>
            <a:off x="1225440" y="4151160"/>
            <a:ext cx="658440" cy="706680"/>
            <a:chOff x="1225440" y="4151160"/>
            <a:chExt cx="658440" cy="706680"/>
          </a:xfrm>
        </p:grpSpPr>
        <p:pic>
          <p:nvPicPr>
            <p:cNvPr id="57" name="Key_W" descr=""/>
            <p:cNvPicPr/>
            <p:nvPr/>
          </p:nvPicPr>
          <p:blipFill>
            <a:blip r:embed="rId4"/>
            <a:stretch/>
          </p:blipFill>
          <p:spPr>
            <a:xfrm>
              <a:off x="1228320" y="4152240"/>
              <a:ext cx="655560" cy="7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225440" y="4151160"/>
              <a:ext cx="65592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5"/>
          <p:cNvGrpSpPr/>
          <p:nvPr/>
        </p:nvGrpSpPr>
        <p:grpSpPr>
          <a:xfrm>
            <a:off x="1986120" y="4059360"/>
            <a:ext cx="838080" cy="850680"/>
            <a:chOff x="1986120" y="4059360"/>
            <a:chExt cx="838080" cy="850680"/>
          </a:xfrm>
        </p:grpSpPr>
        <p:sp>
          <p:nvSpPr>
            <p:cNvPr id="60" name="Freeform 155"/>
            <p:cNvSpPr/>
            <p:nvPr/>
          </p:nvSpPr>
          <p:spPr>
            <a:xfrm>
              <a:off x="1986120" y="4059360"/>
              <a:ext cx="830160" cy="84348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" name="Freeform 156"/>
            <p:cNvGrpSpPr/>
            <p:nvPr/>
          </p:nvGrpSpPr>
          <p:grpSpPr>
            <a:xfrm>
              <a:off x="2035800" y="4071960"/>
              <a:ext cx="788400" cy="838080"/>
              <a:chOff x="2035800" y="4071960"/>
              <a:chExt cx="788400" cy="838080"/>
            </a:xfrm>
          </p:grpSpPr>
          <p:pic>
            <p:nvPicPr>
              <p:cNvPr id="62" name="Freeform 156" descr=""/>
              <p:cNvPicPr/>
              <p:nvPr/>
            </p:nvPicPr>
            <p:blipFill>
              <a:blip r:embed="rId5"/>
              <a:stretch/>
            </p:blipFill>
            <p:spPr>
              <a:xfrm>
                <a:off x="2035800" y="4071960"/>
                <a:ext cx="78840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2044440" y="4078800"/>
                <a:ext cx="775080" cy="8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" name="Key_E"/>
          <p:cNvGrpSpPr/>
          <p:nvPr/>
        </p:nvGrpSpPr>
        <p:grpSpPr>
          <a:xfrm>
            <a:off x="2084400" y="4151160"/>
            <a:ext cx="658440" cy="706680"/>
            <a:chOff x="2084400" y="4151160"/>
            <a:chExt cx="658440" cy="706680"/>
          </a:xfrm>
        </p:grpSpPr>
        <p:pic>
          <p:nvPicPr>
            <p:cNvPr id="65" name="Key_E" descr=""/>
            <p:cNvPicPr/>
            <p:nvPr/>
          </p:nvPicPr>
          <p:blipFill>
            <a:blip r:embed="rId6"/>
            <a:stretch/>
          </p:blipFill>
          <p:spPr>
            <a:xfrm>
              <a:off x="2085480" y="4152240"/>
              <a:ext cx="657360" cy="7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084400" y="4151160"/>
              <a:ext cx="6573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89"/>
          <p:cNvGrpSpPr/>
          <p:nvPr/>
        </p:nvGrpSpPr>
        <p:grpSpPr>
          <a:xfrm>
            <a:off x="2846520" y="4059360"/>
            <a:ext cx="838080" cy="850680"/>
            <a:chOff x="2846520" y="4059360"/>
            <a:chExt cx="838080" cy="850680"/>
          </a:xfrm>
        </p:grpSpPr>
        <p:sp>
          <p:nvSpPr>
            <p:cNvPr id="68" name="Freeform 155"/>
            <p:cNvSpPr/>
            <p:nvPr/>
          </p:nvSpPr>
          <p:spPr>
            <a:xfrm>
              <a:off x="2846520" y="4059360"/>
              <a:ext cx="830880" cy="84348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" name="Freeform 156"/>
            <p:cNvGrpSpPr/>
            <p:nvPr/>
          </p:nvGrpSpPr>
          <p:grpSpPr>
            <a:xfrm>
              <a:off x="2901600" y="4071960"/>
              <a:ext cx="783000" cy="838080"/>
              <a:chOff x="2901600" y="4071960"/>
              <a:chExt cx="783000" cy="838080"/>
            </a:xfrm>
          </p:grpSpPr>
          <p:pic>
            <p:nvPicPr>
              <p:cNvPr id="70" name="Freeform 156" descr=""/>
              <p:cNvPicPr/>
              <p:nvPr/>
            </p:nvPicPr>
            <p:blipFill>
              <a:blip r:embed="rId7"/>
              <a:stretch/>
            </p:blipFill>
            <p:spPr>
              <a:xfrm>
                <a:off x="2901600" y="4071960"/>
                <a:ext cx="78300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2905200" y="4078800"/>
                <a:ext cx="775800" cy="8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" name="Key_R"/>
          <p:cNvGrpSpPr/>
          <p:nvPr/>
        </p:nvGrpSpPr>
        <p:grpSpPr>
          <a:xfrm>
            <a:off x="2944800" y="4151160"/>
            <a:ext cx="657360" cy="706680"/>
            <a:chOff x="2944800" y="4151160"/>
            <a:chExt cx="657360" cy="706680"/>
          </a:xfrm>
        </p:grpSpPr>
        <p:pic>
          <p:nvPicPr>
            <p:cNvPr id="73" name="Key_R" descr=""/>
            <p:cNvPicPr/>
            <p:nvPr/>
          </p:nvPicPr>
          <p:blipFill>
            <a:blip r:embed="rId8"/>
            <a:stretch/>
          </p:blipFill>
          <p:spPr>
            <a:xfrm>
              <a:off x="2945880" y="4152240"/>
              <a:ext cx="655920" cy="7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2944800" y="4151160"/>
              <a:ext cx="6573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93"/>
          <p:cNvGrpSpPr/>
          <p:nvPr/>
        </p:nvGrpSpPr>
        <p:grpSpPr>
          <a:xfrm>
            <a:off x="3706920" y="4059360"/>
            <a:ext cx="838080" cy="850680"/>
            <a:chOff x="3706920" y="4059360"/>
            <a:chExt cx="838080" cy="850680"/>
          </a:xfrm>
        </p:grpSpPr>
        <p:sp>
          <p:nvSpPr>
            <p:cNvPr id="76" name="Freeform 155"/>
            <p:cNvSpPr/>
            <p:nvPr/>
          </p:nvSpPr>
          <p:spPr>
            <a:xfrm>
              <a:off x="3706920" y="4059360"/>
              <a:ext cx="825840" cy="84348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" name="Freeform 156"/>
            <p:cNvGrpSpPr/>
            <p:nvPr/>
          </p:nvGrpSpPr>
          <p:grpSpPr>
            <a:xfrm>
              <a:off x="3760920" y="4071960"/>
              <a:ext cx="784080" cy="838080"/>
              <a:chOff x="3760920" y="4071960"/>
              <a:chExt cx="784080" cy="838080"/>
            </a:xfrm>
          </p:grpSpPr>
          <p:pic>
            <p:nvPicPr>
              <p:cNvPr id="78" name="Freeform 156" descr=""/>
              <p:cNvPicPr/>
              <p:nvPr/>
            </p:nvPicPr>
            <p:blipFill>
              <a:blip r:embed="rId9"/>
              <a:stretch/>
            </p:blipFill>
            <p:spPr>
              <a:xfrm>
                <a:off x="3760920" y="4071960"/>
                <a:ext cx="784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3765240" y="4078800"/>
                <a:ext cx="771120" cy="8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" name="Key_T"/>
          <p:cNvGrpSpPr/>
          <p:nvPr/>
        </p:nvGrpSpPr>
        <p:grpSpPr>
          <a:xfrm>
            <a:off x="3803760" y="4151160"/>
            <a:ext cx="658800" cy="706680"/>
            <a:chOff x="3803760" y="4151160"/>
            <a:chExt cx="658800" cy="706680"/>
          </a:xfrm>
        </p:grpSpPr>
        <p:pic>
          <p:nvPicPr>
            <p:cNvPr id="81" name="Key_T" descr=""/>
            <p:cNvPicPr/>
            <p:nvPr/>
          </p:nvPicPr>
          <p:blipFill>
            <a:blip r:embed="rId10"/>
            <a:stretch/>
          </p:blipFill>
          <p:spPr>
            <a:xfrm>
              <a:off x="3803760" y="4152240"/>
              <a:ext cx="658800" cy="7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803760" y="4151160"/>
              <a:ext cx="6588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Group 97"/>
          <p:cNvGrpSpPr/>
          <p:nvPr/>
        </p:nvGrpSpPr>
        <p:grpSpPr>
          <a:xfrm>
            <a:off x="4567320" y="4059360"/>
            <a:ext cx="838080" cy="850680"/>
            <a:chOff x="4567320" y="4059360"/>
            <a:chExt cx="838080" cy="850680"/>
          </a:xfrm>
        </p:grpSpPr>
        <p:sp>
          <p:nvSpPr>
            <p:cNvPr id="84" name="Freeform 155"/>
            <p:cNvSpPr/>
            <p:nvPr/>
          </p:nvSpPr>
          <p:spPr>
            <a:xfrm>
              <a:off x="4567320" y="4059360"/>
              <a:ext cx="826560" cy="84348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" name="Freeform 156"/>
            <p:cNvGrpSpPr/>
            <p:nvPr/>
          </p:nvGrpSpPr>
          <p:grpSpPr>
            <a:xfrm>
              <a:off x="4620600" y="4071960"/>
              <a:ext cx="784800" cy="838080"/>
              <a:chOff x="4620600" y="4071960"/>
              <a:chExt cx="784800" cy="838080"/>
            </a:xfrm>
          </p:grpSpPr>
          <p:pic>
            <p:nvPicPr>
              <p:cNvPr id="86" name="Freeform 156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20600" y="4071960"/>
                <a:ext cx="78480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4625640" y="4078800"/>
                <a:ext cx="771840" cy="8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" name="Key_Y"/>
          <p:cNvGrpSpPr/>
          <p:nvPr/>
        </p:nvGrpSpPr>
        <p:grpSpPr>
          <a:xfrm>
            <a:off x="4664160" y="4151160"/>
            <a:ext cx="657000" cy="706680"/>
            <a:chOff x="4664160" y="4151160"/>
            <a:chExt cx="657000" cy="706680"/>
          </a:xfrm>
        </p:grpSpPr>
        <p:pic>
          <p:nvPicPr>
            <p:cNvPr id="89" name="Key_Y" descr=""/>
            <p:cNvPicPr/>
            <p:nvPr/>
          </p:nvPicPr>
          <p:blipFill>
            <a:blip r:embed="rId12"/>
            <a:stretch/>
          </p:blipFill>
          <p:spPr>
            <a:xfrm>
              <a:off x="4664160" y="4152240"/>
              <a:ext cx="655200" cy="7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664160" y="4151160"/>
              <a:ext cx="6570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01"/>
          <p:cNvGrpSpPr/>
          <p:nvPr/>
        </p:nvGrpSpPr>
        <p:grpSpPr>
          <a:xfrm>
            <a:off x="5427720" y="4059360"/>
            <a:ext cx="838080" cy="850680"/>
            <a:chOff x="5427720" y="4059360"/>
            <a:chExt cx="838080" cy="850680"/>
          </a:xfrm>
        </p:grpSpPr>
        <p:sp>
          <p:nvSpPr>
            <p:cNvPr id="92" name="Freeform 155"/>
            <p:cNvSpPr/>
            <p:nvPr/>
          </p:nvSpPr>
          <p:spPr>
            <a:xfrm>
              <a:off x="5427720" y="4059360"/>
              <a:ext cx="827280" cy="84348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" name="Freeform 156"/>
            <p:cNvGrpSpPr/>
            <p:nvPr/>
          </p:nvGrpSpPr>
          <p:grpSpPr>
            <a:xfrm>
              <a:off x="5480280" y="4071960"/>
              <a:ext cx="785520" cy="838080"/>
              <a:chOff x="5480280" y="4071960"/>
              <a:chExt cx="785520" cy="838080"/>
            </a:xfrm>
          </p:grpSpPr>
          <p:pic>
            <p:nvPicPr>
              <p:cNvPr id="94" name="Freeform 156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80280" y="4071960"/>
                <a:ext cx="78552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5486040" y="4078800"/>
                <a:ext cx="772560" cy="8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6" name="Key_U"/>
          <p:cNvGrpSpPr/>
          <p:nvPr/>
        </p:nvGrpSpPr>
        <p:grpSpPr>
          <a:xfrm>
            <a:off x="5522760" y="4151160"/>
            <a:ext cx="658440" cy="706680"/>
            <a:chOff x="5522760" y="4151160"/>
            <a:chExt cx="658440" cy="706680"/>
          </a:xfrm>
        </p:grpSpPr>
        <p:pic>
          <p:nvPicPr>
            <p:cNvPr id="97" name="Key_U" descr=""/>
            <p:cNvPicPr/>
            <p:nvPr/>
          </p:nvPicPr>
          <p:blipFill>
            <a:blip r:embed="rId14"/>
            <a:stretch/>
          </p:blipFill>
          <p:spPr>
            <a:xfrm>
              <a:off x="5522760" y="4152240"/>
              <a:ext cx="657000" cy="7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524200" y="4151160"/>
              <a:ext cx="6570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05"/>
          <p:cNvGrpSpPr/>
          <p:nvPr/>
        </p:nvGrpSpPr>
        <p:grpSpPr>
          <a:xfrm>
            <a:off x="6286680" y="4059360"/>
            <a:ext cx="839520" cy="850680"/>
            <a:chOff x="6286680" y="4059360"/>
            <a:chExt cx="839520" cy="850680"/>
          </a:xfrm>
        </p:grpSpPr>
        <p:sp>
          <p:nvSpPr>
            <p:cNvPr id="100" name="Freeform 155"/>
            <p:cNvSpPr/>
            <p:nvPr/>
          </p:nvSpPr>
          <p:spPr>
            <a:xfrm>
              <a:off x="6286680" y="4059360"/>
              <a:ext cx="829440" cy="84348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1" name="Freeform 156"/>
            <p:cNvGrpSpPr/>
            <p:nvPr/>
          </p:nvGrpSpPr>
          <p:grpSpPr>
            <a:xfrm>
              <a:off x="6338880" y="4071960"/>
              <a:ext cx="787320" cy="838080"/>
              <a:chOff x="6338880" y="4071960"/>
              <a:chExt cx="787320" cy="838080"/>
            </a:xfrm>
          </p:grpSpPr>
          <p:pic>
            <p:nvPicPr>
              <p:cNvPr id="102" name="Freeform 156" descr=""/>
              <p:cNvPicPr/>
              <p:nvPr/>
            </p:nvPicPr>
            <p:blipFill>
              <a:blip r:embed="rId15"/>
              <a:stretch/>
            </p:blipFill>
            <p:spPr>
              <a:xfrm>
                <a:off x="6338880" y="4071960"/>
                <a:ext cx="78732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6345360" y="4078800"/>
                <a:ext cx="774360" cy="8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" name="Key_I"/>
          <p:cNvGrpSpPr/>
          <p:nvPr/>
        </p:nvGrpSpPr>
        <p:grpSpPr>
          <a:xfrm>
            <a:off x="6381720" y="4151160"/>
            <a:ext cx="658440" cy="706680"/>
            <a:chOff x="6381720" y="4151160"/>
            <a:chExt cx="658440" cy="706680"/>
          </a:xfrm>
        </p:grpSpPr>
        <p:pic>
          <p:nvPicPr>
            <p:cNvPr id="105" name="Key_I" descr=""/>
            <p:cNvPicPr/>
            <p:nvPr/>
          </p:nvPicPr>
          <p:blipFill>
            <a:blip r:embed="rId16"/>
            <a:stretch/>
          </p:blipFill>
          <p:spPr>
            <a:xfrm>
              <a:off x="6381720" y="4152240"/>
              <a:ext cx="657000" cy="7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384600" y="4151160"/>
              <a:ext cx="6555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109"/>
          <p:cNvGrpSpPr/>
          <p:nvPr/>
        </p:nvGrpSpPr>
        <p:grpSpPr>
          <a:xfrm>
            <a:off x="7147080" y="4059360"/>
            <a:ext cx="838080" cy="850680"/>
            <a:chOff x="7147080" y="4059360"/>
            <a:chExt cx="838080" cy="850680"/>
          </a:xfrm>
        </p:grpSpPr>
        <p:sp>
          <p:nvSpPr>
            <p:cNvPr id="108" name="Freeform 155"/>
            <p:cNvSpPr/>
            <p:nvPr/>
          </p:nvSpPr>
          <p:spPr>
            <a:xfrm>
              <a:off x="7147080" y="4059360"/>
              <a:ext cx="828720" cy="84348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" name="Freeform 156"/>
            <p:cNvGrpSpPr/>
            <p:nvPr/>
          </p:nvGrpSpPr>
          <p:grpSpPr>
            <a:xfrm>
              <a:off x="7198560" y="4071960"/>
              <a:ext cx="786600" cy="838080"/>
              <a:chOff x="7198560" y="4071960"/>
              <a:chExt cx="786600" cy="838080"/>
            </a:xfrm>
          </p:grpSpPr>
          <p:pic>
            <p:nvPicPr>
              <p:cNvPr id="110" name="Freeform 156" descr=""/>
              <p:cNvPicPr/>
              <p:nvPr/>
            </p:nvPicPr>
            <p:blipFill>
              <a:blip r:embed="rId17"/>
              <a:stretch/>
            </p:blipFill>
            <p:spPr>
              <a:xfrm>
                <a:off x="7198560" y="4071960"/>
                <a:ext cx="78660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7205760" y="4078800"/>
                <a:ext cx="773640" cy="8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2" name="Key_O"/>
          <p:cNvGrpSpPr/>
          <p:nvPr/>
        </p:nvGrpSpPr>
        <p:grpSpPr>
          <a:xfrm>
            <a:off x="7242120" y="4151160"/>
            <a:ext cx="658440" cy="706680"/>
            <a:chOff x="7242120" y="4151160"/>
            <a:chExt cx="658440" cy="706680"/>
          </a:xfrm>
        </p:grpSpPr>
        <p:pic>
          <p:nvPicPr>
            <p:cNvPr id="113" name="Key_O" descr=""/>
            <p:cNvPicPr/>
            <p:nvPr/>
          </p:nvPicPr>
          <p:blipFill>
            <a:blip r:embed="rId18"/>
            <a:stretch/>
          </p:blipFill>
          <p:spPr>
            <a:xfrm>
              <a:off x="7242120" y="4152240"/>
              <a:ext cx="657000" cy="7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245000" y="4151160"/>
              <a:ext cx="6555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113"/>
          <p:cNvGrpSpPr/>
          <p:nvPr/>
        </p:nvGrpSpPr>
        <p:grpSpPr>
          <a:xfrm>
            <a:off x="8007480" y="4059360"/>
            <a:ext cx="838080" cy="850680"/>
            <a:chOff x="8007480" y="4059360"/>
            <a:chExt cx="838080" cy="850680"/>
          </a:xfrm>
        </p:grpSpPr>
        <p:sp>
          <p:nvSpPr>
            <p:cNvPr id="116" name="Freeform 155"/>
            <p:cNvSpPr/>
            <p:nvPr/>
          </p:nvSpPr>
          <p:spPr>
            <a:xfrm>
              <a:off x="8007480" y="4059360"/>
              <a:ext cx="829440" cy="84348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7" name="Freeform 156"/>
            <p:cNvGrpSpPr/>
            <p:nvPr/>
          </p:nvGrpSpPr>
          <p:grpSpPr>
            <a:xfrm>
              <a:off x="8058240" y="4071960"/>
              <a:ext cx="787320" cy="838080"/>
              <a:chOff x="8058240" y="4071960"/>
              <a:chExt cx="787320" cy="838080"/>
            </a:xfrm>
          </p:grpSpPr>
          <p:pic>
            <p:nvPicPr>
              <p:cNvPr id="118" name="Freeform 156" descr=""/>
              <p:cNvPicPr/>
              <p:nvPr/>
            </p:nvPicPr>
            <p:blipFill>
              <a:blip r:embed="rId19"/>
              <a:stretch/>
            </p:blipFill>
            <p:spPr>
              <a:xfrm>
                <a:off x="8058240" y="4071960"/>
                <a:ext cx="78732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8066160" y="4078800"/>
                <a:ext cx="774360" cy="8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0" name="Key_P"/>
          <p:cNvGrpSpPr/>
          <p:nvPr/>
        </p:nvGrpSpPr>
        <p:grpSpPr>
          <a:xfrm>
            <a:off x="8107200" y="4151160"/>
            <a:ext cx="658440" cy="706680"/>
            <a:chOff x="8107200" y="4151160"/>
            <a:chExt cx="658440" cy="706680"/>
          </a:xfrm>
        </p:grpSpPr>
        <p:pic>
          <p:nvPicPr>
            <p:cNvPr id="121" name="Key_P" descr=""/>
            <p:cNvPicPr/>
            <p:nvPr/>
          </p:nvPicPr>
          <p:blipFill>
            <a:blip r:embed="rId20"/>
            <a:stretch/>
          </p:blipFill>
          <p:spPr>
            <a:xfrm>
              <a:off x="8108280" y="4152240"/>
              <a:ext cx="657360" cy="7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8107200" y="4151160"/>
              <a:ext cx="65592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117"/>
          <p:cNvGrpSpPr/>
          <p:nvPr/>
        </p:nvGrpSpPr>
        <p:grpSpPr>
          <a:xfrm>
            <a:off x="615960" y="4973760"/>
            <a:ext cx="838080" cy="849240"/>
            <a:chOff x="615960" y="4973760"/>
            <a:chExt cx="838080" cy="849240"/>
          </a:xfrm>
        </p:grpSpPr>
        <p:sp>
          <p:nvSpPr>
            <p:cNvPr id="124" name="Freeform 155"/>
            <p:cNvSpPr/>
            <p:nvPr/>
          </p:nvSpPr>
          <p:spPr>
            <a:xfrm>
              <a:off x="615960" y="4973760"/>
              <a:ext cx="826560" cy="84132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5" name="Freeform 156"/>
            <p:cNvGrpSpPr/>
            <p:nvPr/>
          </p:nvGrpSpPr>
          <p:grpSpPr>
            <a:xfrm>
              <a:off x="669240" y="4987080"/>
              <a:ext cx="784800" cy="835920"/>
              <a:chOff x="669240" y="4987080"/>
              <a:chExt cx="784800" cy="835920"/>
            </a:xfrm>
          </p:grpSpPr>
          <p:pic>
            <p:nvPicPr>
              <p:cNvPr id="126" name="Freeform 156" descr=""/>
              <p:cNvPicPr/>
              <p:nvPr/>
            </p:nvPicPr>
            <p:blipFill>
              <a:blip r:embed="rId21"/>
              <a:stretch/>
            </p:blipFill>
            <p:spPr>
              <a:xfrm>
                <a:off x="669240" y="4987080"/>
                <a:ext cx="784800" cy="83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674280" y="4993200"/>
                <a:ext cx="77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8" name="Key_A"/>
          <p:cNvGrpSpPr/>
          <p:nvPr/>
        </p:nvGrpSpPr>
        <p:grpSpPr>
          <a:xfrm>
            <a:off x="712800" y="5059440"/>
            <a:ext cx="658800" cy="712800"/>
            <a:chOff x="712800" y="5059440"/>
            <a:chExt cx="658800" cy="712800"/>
          </a:xfrm>
        </p:grpSpPr>
        <p:pic>
          <p:nvPicPr>
            <p:cNvPr id="129" name="Key_A" descr=""/>
            <p:cNvPicPr/>
            <p:nvPr/>
          </p:nvPicPr>
          <p:blipFill>
            <a:blip r:embed="rId22"/>
            <a:stretch/>
          </p:blipFill>
          <p:spPr>
            <a:xfrm>
              <a:off x="712800" y="5059440"/>
              <a:ext cx="6588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14240" y="5062680"/>
              <a:ext cx="657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121"/>
          <p:cNvGrpSpPr/>
          <p:nvPr/>
        </p:nvGrpSpPr>
        <p:grpSpPr>
          <a:xfrm>
            <a:off x="1476360" y="4973760"/>
            <a:ext cx="838080" cy="849240"/>
            <a:chOff x="1476360" y="4973760"/>
            <a:chExt cx="838080" cy="849240"/>
          </a:xfrm>
        </p:grpSpPr>
        <p:sp>
          <p:nvSpPr>
            <p:cNvPr id="132" name="Freeform 155"/>
            <p:cNvSpPr/>
            <p:nvPr/>
          </p:nvSpPr>
          <p:spPr>
            <a:xfrm>
              <a:off x="1476360" y="4973760"/>
              <a:ext cx="827280" cy="84132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3" name="Freeform 156"/>
            <p:cNvGrpSpPr/>
            <p:nvPr/>
          </p:nvGrpSpPr>
          <p:grpSpPr>
            <a:xfrm>
              <a:off x="1528920" y="4987080"/>
              <a:ext cx="785520" cy="835920"/>
              <a:chOff x="1528920" y="4987080"/>
              <a:chExt cx="785520" cy="835920"/>
            </a:xfrm>
          </p:grpSpPr>
          <p:pic>
            <p:nvPicPr>
              <p:cNvPr id="134" name="Freeform 156" descr=""/>
              <p:cNvPicPr/>
              <p:nvPr/>
            </p:nvPicPr>
            <p:blipFill>
              <a:blip r:embed="rId23"/>
              <a:stretch/>
            </p:blipFill>
            <p:spPr>
              <a:xfrm>
                <a:off x="1528920" y="4987080"/>
                <a:ext cx="785520" cy="83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1534680" y="4993200"/>
                <a:ext cx="772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6" name="Key_S"/>
          <p:cNvGrpSpPr/>
          <p:nvPr/>
        </p:nvGrpSpPr>
        <p:grpSpPr>
          <a:xfrm>
            <a:off x="1573200" y="5059440"/>
            <a:ext cx="657000" cy="712800"/>
            <a:chOff x="1573200" y="5059440"/>
            <a:chExt cx="657000" cy="712800"/>
          </a:xfrm>
        </p:grpSpPr>
        <p:pic>
          <p:nvPicPr>
            <p:cNvPr id="137" name="Key_S" descr=""/>
            <p:cNvPicPr/>
            <p:nvPr/>
          </p:nvPicPr>
          <p:blipFill>
            <a:blip r:embed="rId24"/>
            <a:stretch/>
          </p:blipFill>
          <p:spPr>
            <a:xfrm>
              <a:off x="1573200" y="5059440"/>
              <a:ext cx="65592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574280" y="5062680"/>
              <a:ext cx="6559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25"/>
          <p:cNvGrpSpPr/>
          <p:nvPr/>
        </p:nvGrpSpPr>
        <p:grpSpPr>
          <a:xfrm>
            <a:off x="2336760" y="4973760"/>
            <a:ext cx="838080" cy="849240"/>
            <a:chOff x="2336760" y="4973760"/>
            <a:chExt cx="838080" cy="849240"/>
          </a:xfrm>
        </p:grpSpPr>
        <p:sp>
          <p:nvSpPr>
            <p:cNvPr id="140" name="Freeform 155"/>
            <p:cNvSpPr/>
            <p:nvPr/>
          </p:nvSpPr>
          <p:spPr>
            <a:xfrm>
              <a:off x="2336760" y="4973760"/>
              <a:ext cx="828000" cy="84132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1" name="Freeform 156"/>
            <p:cNvGrpSpPr/>
            <p:nvPr/>
          </p:nvGrpSpPr>
          <p:grpSpPr>
            <a:xfrm>
              <a:off x="2388600" y="4987080"/>
              <a:ext cx="786240" cy="835920"/>
              <a:chOff x="2388600" y="4987080"/>
              <a:chExt cx="786240" cy="835920"/>
            </a:xfrm>
          </p:grpSpPr>
          <p:pic>
            <p:nvPicPr>
              <p:cNvPr id="142" name="Freeform 156" descr=""/>
              <p:cNvPicPr/>
              <p:nvPr/>
            </p:nvPicPr>
            <p:blipFill>
              <a:blip r:embed="rId25"/>
              <a:stretch/>
            </p:blipFill>
            <p:spPr>
              <a:xfrm>
                <a:off x="2388600" y="4987080"/>
                <a:ext cx="786240" cy="83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2395080" y="4993200"/>
                <a:ext cx="773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4" name="Key_D"/>
          <p:cNvGrpSpPr/>
          <p:nvPr/>
        </p:nvGrpSpPr>
        <p:grpSpPr>
          <a:xfrm>
            <a:off x="2432160" y="5059440"/>
            <a:ext cx="658440" cy="712800"/>
            <a:chOff x="2432160" y="5059440"/>
            <a:chExt cx="658440" cy="712800"/>
          </a:xfrm>
        </p:grpSpPr>
        <p:pic>
          <p:nvPicPr>
            <p:cNvPr id="145" name="Key_D" descr=""/>
            <p:cNvPicPr/>
            <p:nvPr/>
          </p:nvPicPr>
          <p:blipFill>
            <a:blip r:embed="rId26"/>
            <a:stretch/>
          </p:blipFill>
          <p:spPr>
            <a:xfrm>
              <a:off x="2432160" y="5059440"/>
              <a:ext cx="6573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435040" y="5062680"/>
              <a:ext cx="6555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129"/>
          <p:cNvGrpSpPr/>
          <p:nvPr/>
        </p:nvGrpSpPr>
        <p:grpSpPr>
          <a:xfrm>
            <a:off x="3197160" y="4973760"/>
            <a:ext cx="838440" cy="849240"/>
            <a:chOff x="3197160" y="4973760"/>
            <a:chExt cx="838440" cy="849240"/>
          </a:xfrm>
        </p:grpSpPr>
        <p:sp>
          <p:nvSpPr>
            <p:cNvPr id="148" name="Freeform 155"/>
            <p:cNvSpPr/>
            <p:nvPr/>
          </p:nvSpPr>
          <p:spPr>
            <a:xfrm>
              <a:off x="3197160" y="4973760"/>
              <a:ext cx="829080" cy="84132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9" name="Freeform 156"/>
            <p:cNvGrpSpPr/>
            <p:nvPr/>
          </p:nvGrpSpPr>
          <p:grpSpPr>
            <a:xfrm>
              <a:off x="3248280" y="4987080"/>
              <a:ext cx="787320" cy="835920"/>
              <a:chOff x="3248280" y="4987080"/>
              <a:chExt cx="787320" cy="835920"/>
            </a:xfrm>
          </p:grpSpPr>
          <p:pic>
            <p:nvPicPr>
              <p:cNvPr id="150" name="Freeform 156" descr=""/>
              <p:cNvPicPr/>
              <p:nvPr/>
            </p:nvPicPr>
            <p:blipFill>
              <a:blip r:embed="rId27"/>
              <a:stretch/>
            </p:blipFill>
            <p:spPr>
              <a:xfrm>
                <a:off x="3248280" y="4987080"/>
                <a:ext cx="787320" cy="83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3255480" y="4993200"/>
                <a:ext cx="7743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2" name="Key_F"/>
          <p:cNvGrpSpPr/>
          <p:nvPr/>
        </p:nvGrpSpPr>
        <p:grpSpPr>
          <a:xfrm>
            <a:off x="3292560" y="5059440"/>
            <a:ext cx="656640" cy="712800"/>
            <a:chOff x="3292560" y="5059440"/>
            <a:chExt cx="656640" cy="712800"/>
          </a:xfrm>
        </p:grpSpPr>
        <p:pic>
          <p:nvPicPr>
            <p:cNvPr id="153" name="Key_F" descr=""/>
            <p:cNvPicPr/>
            <p:nvPr/>
          </p:nvPicPr>
          <p:blipFill>
            <a:blip r:embed="rId28"/>
            <a:stretch/>
          </p:blipFill>
          <p:spPr>
            <a:xfrm>
              <a:off x="3292560" y="5059440"/>
              <a:ext cx="6537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295440" y="5062680"/>
              <a:ext cx="6537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Group 133"/>
          <p:cNvGrpSpPr/>
          <p:nvPr/>
        </p:nvGrpSpPr>
        <p:grpSpPr>
          <a:xfrm>
            <a:off x="4057560" y="4973760"/>
            <a:ext cx="838440" cy="849240"/>
            <a:chOff x="4057560" y="4973760"/>
            <a:chExt cx="838440" cy="849240"/>
          </a:xfrm>
        </p:grpSpPr>
        <p:sp>
          <p:nvSpPr>
            <p:cNvPr id="156" name="Freeform 155"/>
            <p:cNvSpPr/>
            <p:nvPr/>
          </p:nvSpPr>
          <p:spPr>
            <a:xfrm>
              <a:off x="4057560" y="4973760"/>
              <a:ext cx="829800" cy="84132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7" name="Freeform 156"/>
            <p:cNvGrpSpPr/>
            <p:nvPr/>
          </p:nvGrpSpPr>
          <p:grpSpPr>
            <a:xfrm>
              <a:off x="4107960" y="4987080"/>
              <a:ext cx="788040" cy="835920"/>
              <a:chOff x="4107960" y="4987080"/>
              <a:chExt cx="788040" cy="835920"/>
            </a:xfrm>
          </p:grpSpPr>
          <p:pic>
            <p:nvPicPr>
              <p:cNvPr id="158" name="Freeform 156" descr=""/>
              <p:cNvPicPr/>
              <p:nvPr/>
            </p:nvPicPr>
            <p:blipFill>
              <a:blip r:embed="rId29"/>
              <a:stretch/>
            </p:blipFill>
            <p:spPr>
              <a:xfrm>
                <a:off x="4107960" y="4987080"/>
                <a:ext cx="788040" cy="83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4115880" y="4993200"/>
                <a:ext cx="7750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0" name="Key_G"/>
          <p:cNvGrpSpPr/>
          <p:nvPr/>
        </p:nvGrpSpPr>
        <p:grpSpPr>
          <a:xfrm>
            <a:off x="4157640" y="5059440"/>
            <a:ext cx="658440" cy="712800"/>
            <a:chOff x="4157640" y="5059440"/>
            <a:chExt cx="658440" cy="712800"/>
          </a:xfrm>
        </p:grpSpPr>
        <p:pic>
          <p:nvPicPr>
            <p:cNvPr id="161" name="Key_G" descr=""/>
            <p:cNvPicPr/>
            <p:nvPr/>
          </p:nvPicPr>
          <p:blipFill>
            <a:blip r:embed="rId30"/>
            <a:stretch/>
          </p:blipFill>
          <p:spPr>
            <a:xfrm>
              <a:off x="4160520" y="5059440"/>
              <a:ext cx="6555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4157640" y="5062680"/>
              <a:ext cx="6555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137"/>
          <p:cNvGrpSpPr/>
          <p:nvPr/>
        </p:nvGrpSpPr>
        <p:grpSpPr>
          <a:xfrm>
            <a:off x="4917960" y="4973760"/>
            <a:ext cx="838440" cy="849240"/>
            <a:chOff x="4917960" y="4973760"/>
            <a:chExt cx="838440" cy="849240"/>
          </a:xfrm>
        </p:grpSpPr>
        <p:sp>
          <p:nvSpPr>
            <p:cNvPr id="164" name="Freeform 155"/>
            <p:cNvSpPr/>
            <p:nvPr/>
          </p:nvSpPr>
          <p:spPr>
            <a:xfrm>
              <a:off x="4917960" y="4973760"/>
              <a:ext cx="830520" cy="84132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5" name="Freeform 156"/>
            <p:cNvGrpSpPr/>
            <p:nvPr/>
          </p:nvGrpSpPr>
          <p:grpSpPr>
            <a:xfrm>
              <a:off x="4968000" y="4987080"/>
              <a:ext cx="788400" cy="835920"/>
              <a:chOff x="4968000" y="4987080"/>
              <a:chExt cx="788400" cy="835920"/>
            </a:xfrm>
          </p:grpSpPr>
          <p:pic>
            <p:nvPicPr>
              <p:cNvPr id="166" name="Freeform 156" descr=""/>
              <p:cNvPicPr/>
              <p:nvPr/>
            </p:nvPicPr>
            <p:blipFill>
              <a:blip r:embed="rId31"/>
              <a:stretch/>
            </p:blipFill>
            <p:spPr>
              <a:xfrm>
                <a:off x="4968000" y="4987080"/>
                <a:ext cx="788400" cy="83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"/>
              <p:cNvSpPr/>
              <p:nvPr/>
            </p:nvSpPr>
            <p:spPr>
              <a:xfrm>
                <a:off x="4976640" y="4993200"/>
                <a:ext cx="7750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8" name="Key_H"/>
          <p:cNvGrpSpPr/>
          <p:nvPr/>
        </p:nvGrpSpPr>
        <p:grpSpPr>
          <a:xfrm>
            <a:off x="5016600" y="5059440"/>
            <a:ext cx="658440" cy="712800"/>
            <a:chOff x="5016600" y="5059440"/>
            <a:chExt cx="658440" cy="712800"/>
          </a:xfrm>
        </p:grpSpPr>
        <p:pic>
          <p:nvPicPr>
            <p:cNvPr id="169" name="Key_H" descr=""/>
            <p:cNvPicPr/>
            <p:nvPr/>
          </p:nvPicPr>
          <p:blipFill>
            <a:blip r:embed="rId32"/>
            <a:stretch/>
          </p:blipFill>
          <p:spPr>
            <a:xfrm>
              <a:off x="5018040" y="5059440"/>
              <a:ext cx="6570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016600" y="5062680"/>
              <a:ext cx="657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" name="Group 141"/>
          <p:cNvGrpSpPr/>
          <p:nvPr/>
        </p:nvGrpSpPr>
        <p:grpSpPr>
          <a:xfrm>
            <a:off x="5778360" y="4973760"/>
            <a:ext cx="838440" cy="849240"/>
            <a:chOff x="5778360" y="4973760"/>
            <a:chExt cx="838440" cy="849240"/>
          </a:xfrm>
        </p:grpSpPr>
        <p:sp>
          <p:nvSpPr>
            <p:cNvPr id="172" name="Freeform 155"/>
            <p:cNvSpPr/>
            <p:nvPr/>
          </p:nvSpPr>
          <p:spPr>
            <a:xfrm>
              <a:off x="5778360" y="4973760"/>
              <a:ext cx="831240" cy="84132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3" name="Freeform 156"/>
            <p:cNvGrpSpPr/>
            <p:nvPr/>
          </p:nvGrpSpPr>
          <p:grpSpPr>
            <a:xfrm>
              <a:off x="5833440" y="4987080"/>
              <a:ext cx="783360" cy="835920"/>
              <a:chOff x="5833440" y="4987080"/>
              <a:chExt cx="783360" cy="835920"/>
            </a:xfrm>
          </p:grpSpPr>
          <p:pic>
            <p:nvPicPr>
              <p:cNvPr id="174" name="Freeform 156" descr=""/>
              <p:cNvPicPr/>
              <p:nvPr/>
            </p:nvPicPr>
            <p:blipFill>
              <a:blip r:embed="rId33"/>
              <a:stretch/>
            </p:blipFill>
            <p:spPr>
              <a:xfrm>
                <a:off x="5833440" y="4987080"/>
                <a:ext cx="783360" cy="83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5837040" y="4993200"/>
                <a:ext cx="776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6" name="Key_J"/>
          <p:cNvGrpSpPr/>
          <p:nvPr/>
        </p:nvGrpSpPr>
        <p:grpSpPr>
          <a:xfrm>
            <a:off x="5877000" y="5059440"/>
            <a:ext cx="657000" cy="712800"/>
            <a:chOff x="5877000" y="5059440"/>
            <a:chExt cx="657000" cy="712800"/>
          </a:xfrm>
        </p:grpSpPr>
        <p:pic>
          <p:nvPicPr>
            <p:cNvPr id="177" name="Key_J" descr=""/>
            <p:cNvPicPr/>
            <p:nvPr/>
          </p:nvPicPr>
          <p:blipFill>
            <a:blip r:embed="rId34"/>
            <a:stretch/>
          </p:blipFill>
          <p:spPr>
            <a:xfrm>
              <a:off x="5878440" y="5059440"/>
              <a:ext cx="6552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877000" y="5062680"/>
              <a:ext cx="657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J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45"/>
          <p:cNvGrpSpPr/>
          <p:nvPr/>
        </p:nvGrpSpPr>
        <p:grpSpPr>
          <a:xfrm>
            <a:off x="6638760" y="4973760"/>
            <a:ext cx="838440" cy="849240"/>
            <a:chOff x="6638760" y="4973760"/>
            <a:chExt cx="838440" cy="849240"/>
          </a:xfrm>
        </p:grpSpPr>
        <p:sp>
          <p:nvSpPr>
            <p:cNvPr id="180" name="Freeform 155"/>
            <p:cNvSpPr/>
            <p:nvPr/>
          </p:nvSpPr>
          <p:spPr>
            <a:xfrm>
              <a:off x="6638760" y="4973760"/>
              <a:ext cx="826200" cy="84132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1" name="Freeform 156"/>
            <p:cNvGrpSpPr/>
            <p:nvPr/>
          </p:nvGrpSpPr>
          <p:grpSpPr>
            <a:xfrm>
              <a:off x="6692760" y="4987080"/>
              <a:ext cx="784440" cy="835920"/>
              <a:chOff x="6692760" y="4987080"/>
              <a:chExt cx="784440" cy="835920"/>
            </a:xfrm>
          </p:grpSpPr>
          <p:pic>
            <p:nvPicPr>
              <p:cNvPr id="182" name="Freeform 156" descr=""/>
              <p:cNvPicPr/>
              <p:nvPr/>
            </p:nvPicPr>
            <p:blipFill>
              <a:blip r:embed="rId35"/>
              <a:stretch/>
            </p:blipFill>
            <p:spPr>
              <a:xfrm>
                <a:off x="6692760" y="4987080"/>
                <a:ext cx="784440" cy="83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6697080" y="4993200"/>
                <a:ext cx="771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4" name="Key_K"/>
          <p:cNvGrpSpPr/>
          <p:nvPr/>
        </p:nvGrpSpPr>
        <p:grpSpPr>
          <a:xfrm>
            <a:off x="6735600" y="5059440"/>
            <a:ext cx="658800" cy="712800"/>
            <a:chOff x="6735600" y="5059440"/>
            <a:chExt cx="658800" cy="712800"/>
          </a:xfrm>
        </p:grpSpPr>
        <p:pic>
          <p:nvPicPr>
            <p:cNvPr id="185" name="Key_K" descr=""/>
            <p:cNvPicPr/>
            <p:nvPr/>
          </p:nvPicPr>
          <p:blipFill>
            <a:blip r:embed="rId36"/>
            <a:stretch/>
          </p:blipFill>
          <p:spPr>
            <a:xfrm>
              <a:off x="6735600" y="5059440"/>
              <a:ext cx="6588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735600" y="5062680"/>
              <a:ext cx="6588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Group 149"/>
          <p:cNvGrpSpPr/>
          <p:nvPr/>
        </p:nvGrpSpPr>
        <p:grpSpPr>
          <a:xfrm>
            <a:off x="7499520" y="4973760"/>
            <a:ext cx="838080" cy="849240"/>
            <a:chOff x="7499520" y="4973760"/>
            <a:chExt cx="838080" cy="849240"/>
          </a:xfrm>
        </p:grpSpPr>
        <p:sp>
          <p:nvSpPr>
            <p:cNvPr id="188" name="Freeform 155"/>
            <p:cNvSpPr/>
            <p:nvPr/>
          </p:nvSpPr>
          <p:spPr>
            <a:xfrm>
              <a:off x="7499520" y="4973760"/>
              <a:ext cx="826560" cy="84132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Freeform 156"/>
            <p:cNvGrpSpPr/>
            <p:nvPr/>
          </p:nvGrpSpPr>
          <p:grpSpPr>
            <a:xfrm>
              <a:off x="7552800" y="4987080"/>
              <a:ext cx="784800" cy="835920"/>
              <a:chOff x="7552800" y="4987080"/>
              <a:chExt cx="784800" cy="835920"/>
            </a:xfrm>
          </p:grpSpPr>
          <p:pic>
            <p:nvPicPr>
              <p:cNvPr id="190" name="Freeform 156" descr=""/>
              <p:cNvPicPr/>
              <p:nvPr/>
            </p:nvPicPr>
            <p:blipFill>
              <a:blip r:embed="rId37"/>
              <a:stretch/>
            </p:blipFill>
            <p:spPr>
              <a:xfrm>
                <a:off x="7552800" y="4987080"/>
                <a:ext cx="784800" cy="83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7557840" y="4993200"/>
                <a:ext cx="77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2" name="Key_L"/>
          <p:cNvGrpSpPr/>
          <p:nvPr/>
        </p:nvGrpSpPr>
        <p:grpSpPr>
          <a:xfrm>
            <a:off x="7596360" y="5059440"/>
            <a:ext cx="657000" cy="712800"/>
            <a:chOff x="7596360" y="5059440"/>
            <a:chExt cx="657000" cy="712800"/>
          </a:xfrm>
        </p:grpSpPr>
        <p:pic>
          <p:nvPicPr>
            <p:cNvPr id="193" name="Key_L" descr=""/>
            <p:cNvPicPr/>
            <p:nvPr/>
          </p:nvPicPr>
          <p:blipFill>
            <a:blip r:embed="rId38"/>
            <a:stretch/>
          </p:blipFill>
          <p:spPr>
            <a:xfrm>
              <a:off x="7596360" y="5059440"/>
              <a:ext cx="6552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596360" y="5062680"/>
              <a:ext cx="657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53"/>
          <p:cNvGrpSpPr/>
          <p:nvPr/>
        </p:nvGrpSpPr>
        <p:grpSpPr>
          <a:xfrm>
            <a:off x="1170000" y="5883120"/>
            <a:ext cx="838080" cy="849600"/>
            <a:chOff x="1170000" y="5883120"/>
            <a:chExt cx="838080" cy="849600"/>
          </a:xfrm>
        </p:grpSpPr>
        <p:sp>
          <p:nvSpPr>
            <p:cNvPr id="196" name="Freeform 155"/>
            <p:cNvSpPr/>
            <p:nvPr/>
          </p:nvSpPr>
          <p:spPr>
            <a:xfrm>
              <a:off x="1170000" y="5883120"/>
              <a:ext cx="831240" cy="84312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7" name="Freeform 156"/>
            <p:cNvGrpSpPr/>
            <p:nvPr/>
          </p:nvGrpSpPr>
          <p:grpSpPr>
            <a:xfrm>
              <a:off x="1225080" y="5895000"/>
              <a:ext cx="783000" cy="837720"/>
              <a:chOff x="1225080" y="5895000"/>
              <a:chExt cx="783000" cy="837720"/>
            </a:xfrm>
          </p:grpSpPr>
          <p:pic>
            <p:nvPicPr>
              <p:cNvPr id="198" name="Freeform 156" descr=""/>
              <p:cNvPicPr/>
              <p:nvPr/>
            </p:nvPicPr>
            <p:blipFill>
              <a:blip r:embed="rId39"/>
              <a:stretch/>
            </p:blipFill>
            <p:spPr>
              <a:xfrm>
                <a:off x="1225080" y="5895000"/>
                <a:ext cx="783000" cy="83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1228680" y="5902560"/>
                <a:ext cx="775800" cy="82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0" name="Key_Z"/>
          <p:cNvGrpSpPr/>
          <p:nvPr/>
        </p:nvGrpSpPr>
        <p:grpSpPr>
          <a:xfrm>
            <a:off x="1268280" y="5973840"/>
            <a:ext cx="657360" cy="707760"/>
            <a:chOff x="1268280" y="5973840"/>
            <a:chExt cx="657360" cy="707760"/>
          </a:xfrm>
        </p:grpSpPr>
        <p:pic>
          <p:nvPicPr>
            <p:cNvPr id="201" name="Key_Z" descr=""/>
            <p:cNvPicPr/>
            <p:nvPr/>
          </p:nvPicPr>
          <p:blipFill>
            <a:blip r:embed="rId40"/>
            <a:stretch/>
          </p:blipFill>
          <p:spPr>
            <a:xfrm>
              <a:off x="1269360" y="5975280"/>
              <a:ext cx="6559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268280" y="5973840"/>
              <a:ext cx="65736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Z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157"/>
          <p:cNvGrpSpPr/>
          <p:nvPr/>
        </p:nvGrpSpPr>
        <p:grpSpPr>
          <a:xfrm>
            <a:off x="2030400" y="5883120"/>
            <a:ext cx="838080" cy="849600"/>
            <a:chOff x="2030400" y="5883120"/>
            <a:chExt cx="838080" cy="849600"/>
          </a:xfrm>
        </p:grpSpPr>
        <p:sp>
          <p:nvSpPr>
            <p:cNvPr id="204" name="Freeform 155"/>
            <p:cNvSpPr/>
            <p:nvPr/>
          </p:nvSpPr>
          <p:spPr>
            <a:xfrm>
              <a:off x="2030400" y="5883120"/>
              <a:ext cx="826200" cy="84312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Freeform 156"/>
            <p:cNvGrpSpPr/>
            <p:nvPr/>
          </p:nvGrpSpPr>
          <p:grpSpPr>
            <a:xfrm>
              <a:off x="2084400" y="5895000"/>
              <a:ext cx="784080" cy="837720"/>
              <a:chOff x="2084400" y="5895000"/>
              <a:chExt cx="784080" cy="837720"/>
            </a:xfrm>
          </p:grpSpPr>
          <p:pic>
            <p:nvPicPr>
              <p:cNvPr id="206" name="Freeform 156" descr=""/>
              <p:cNvPicPr/>
              <p:nvPr/>
            </p:nvPicPr>
            <p:blipFill>
              <a:blip r:embed="rId41"/>
              <a:stretch/>
            </p:blipFill>
            <p:spPr>
              <a:xfrm>
                <a:off x="2084400" y="5895000"/>
                <a:ext cx="784080" cy="83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2088720" y="5902560"/>
                <a:ext cx="771120" cy="82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8" name="Key_X"/>
          <p:cNvGrpSpPr/>
          <p:nvPr/>
        </p:nvGrpSpPr>
        <p:grpSpPr>
          <a:xfrm>
            <a:off x="2127240" y="5973840"/>
            <a:ext cx="658800" cy="707760"/>
            <a:chOff x="2127240" y="5973840"/>
            <a:chExt cx="658800" cy="707760"/>
          </a:xfrm>
        </p:grpSpPr>
        <p:pic>
          <p:nvPicPr>
            <p:cNvPr id="209" name="Key_X" descr=""/>
            <p:cNvPicPr/>
            <p:nvPr/>
          </p:nvPicPr>
          <p:blipFill>
            <a:blip r:embed="rId42"/>
            <a:stretch/>
          </p:blipFill>
          <p:spPr>
            <a:xfrm>
              <a:off x="2127240" y="5975280"/>
              <a:ext cx="65880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2127240" y="5973840"/>
              <a:ext cx="65880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Group 161"/>
          <p:cNvGrpSpPr/>
          <p:nvPr/>
        </p:nvGrpSpPr>
        <p:grpSpPr>
          <a:xfrm>
            <a:off x="2890800" y="5883120"/>
            <a:ext cx="838080" cy="849600"/>
            <a:chOff x="2890800" y="5883120"/>
            <a:chExt cx="838080" cy="849600"/>
          </a:xfrm>
        </p:grpSpPr>
        <p:sp>
          <p:nvSpPr>
            <p:cNvPr id="212" name="Freeform 155"/>
            <p:cNvSpPr/>
            <p:nvPr/>
          </p:nvSpPr>
          <p:spPr>
            <a:xfrm>
              <a:off x="2890800" y="5883120"/>
              <a:ext cx="826920" cy="84312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3" name="Freeform 156"/>
            <p:cNvGrpSpPr/>
            <p:nvPr/>
          </p:nvGrpSpPr>
          <p:grpSpPr>
            <a:xfrm>
              <a:off x="2944080" y="5895000"/>
              <a:ext cx="784800" cy="837720"/>
              <a:chOff x="2944080" y="5895000"/>
              <a:chExt cx="784800" cy="837720"/>
            </a:xfrm>
          </p:grpSpPr>
          <p:pic>
            <p:nvPicPr>
              <p:cNvPr id="214" name="Freeform 156" descr=""/>
              <p:cNvPicPr/>
              <p:nvPr/>
            </p:nvPicPr>
            <p:blipFill>
              <a:blip r:embed="rId43"/>
              <a:stretch/>
            </p:blipFill>
            <p:spPr>
              <a:xfrm>
                <a:off x="2944080" y="5895000"/>
                <a:ext cx="784800" cy="83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2949120" y="5902560"/>
                <a:ext cx="771840" cy="82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6" name="Key_C"/>
          <p:cNvGrpSpPr/>
          <p:nvPr/>
        </p:nvGrpSpPr>
        <p:grpSpPr>
          <a:xfrm>
            <a:off x="2987640" y="5973840"/>
            <a:ext cx="657360" cy="707760"/>
            <a:chOff x="2987640" y="5973840"/>
            <a:chExt cx="657360" cy="707760"/>
          </a:xfrm>
        </p:grpSpPr>
        <p:pic>
          <p:nvPicPr>
            <p:cNvPr id="217" name="Key_C" descr=""/>
            <p:cNvPicPr/>
            <p:nvPr/>
          </p:nvPicPr>
          <p:blipFill>
            <a:blip r:embed="rId44"/>
            <a:stretch/>
          </p:blipFill>
          <p:spPr>
            <a:xfrm>
              <a:off x="2987640" y="5975280"/>
              <a:ext cx="6559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2987640" y="5973840"/>
              <a:ext cx="65736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Group 165"/>
          <p:cNvGrpSpPr/>
          <p:nvPr/>
        </p:nvGrpSpPr>
        <p:grpSpPr>
          <a:xfrm>
            <a:off x="3751200" y="5883120"/>
            <a:ext cx="838440" cy="849600"/>
            <a:chOff x="3751200" y="5883120"/>
            <a:chExt cx="838440" cy="849600"/>
          </a:xfrm>
        </p:grpSpPr>
        <p:sp>
          <p:nvSpPr>
            <p:cNvPr id="220" name="Freeform 155"/>
            <p:cNvSpPr/>
            <p:nvPr/>
          </p:nvSpPr>
          <p:spPr>
            <a:xfrm>
              <a:off x="3751200" y="5883120"/>
              <a:ext cx="828000" cy="84312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1" name="Freeform 156"/>
            <p:cNvGrpSpPr/>
            <p:nvPr/>
          </p:nvGrpSpPr>
          <p:grpSpPr>
            <a:xfrm>
              <a:off x="3803760" y="5895000"/>
              <a:ext cx="785880" cy="837720"/>
              <a:chOff x="3803760" y="5895000"/>
              <a:chExt cx="785880" cy="837720"/>
            </a:xfrm>
          </p:grpSpPr>
          <p:pic>
            <p:nvPicPr>
              <p:cNvPr id="222" name="Freeform 156" descr=""/>
              <p:cNvPicPr/>
              <p:nvPr/>
            </p:nvPicPr>
            <p:blipFill>
              <a:blip r:embed="rId45"/>
              <a:stretch/>
            </p:blipFill>
            <p:spPr>
              <a:xfrm>
                <a:off x="3803760" y="5895000"/>
                <a:ext cx="785880" cy="83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3809880" y="5902560"/>
                <a:ext cx="772920" cy="82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4" name="Key_V"/>
          <p:cNvGrpSpPr/>
          <p:nvPr/>
        </p:nvGrpSpPr>
        <p:grpSpPr>
          <a:xfrm>
            <a:off x="3846600" y="5973840"/>
            <a:ext cx="658440" cy="707760"/>
            <a:chOff x="3846600" y="5973840"/>
            <a:chExt cx="658440" cy="707760"/>
          </a:xfrm>
        </p:grpSpPr>
        <p:pic>
          <p:nvPicPr>
            <p:cNvPr id="225" name="Key_V" descr=""/>
            <p:cNvPicPr/>
            <p:nvPr/>
          </p:nvPicPr>
          <p:blipFill>
            <a:blip r:embed="rId46"/>
            <a:stretch/>
          </p:blipFill>
          <p:spPr>
            <a:xfrm>
              <a:off x="3846600" y="5975280"/>
              <a:ext cx="65736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3847680" y="5973840"/>
              <a:ext cx="65736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Group 169"/>
          <p:cNvGrpSpPr/>
          <p:nvPr/>
        </p:nvGrpSpPr>
        <p:grpSpPr>
          <a:xfrm>
            <a:off x="4611600" y="5883120"/>
            <a:ext cx="838440" cy="849600"/>
            <a:chOff x="4611600" y="5883120"/>
            <a:chExt cx="838440" cy="849600"/>
          </a:xfrm>
        </p:grpSpPr>
        <p:sp>
          <p:nvSpPr>
            <p:cNvPr id="228" name="Freeform 155"/>
            <p:cNvSpPr/>
            <p:nvPr/>
          </p:nvSpPr>
          <p:spPr>
            <a:xfrm>
              <a:off x="4611600" y="5883120"/>
              <a:ext cx="828720" cy="84312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9" name="Freeform 156"/>
            <p:cNvGrpSpPr/>
            <p:nvPr/>
          </p:nvGrpSpPr>
          <p:grpSpPr>
            <a:xfrm>
              <a:off x="4663440" y="5895000"/>
              <a:ext cx="786600" cy="837720"/>
              <a:chOff x="4663440" y="5895000"/>
              <a:chExt cx="786600" cy="837720"/>
            </a:xfrm>
          </p:grpSpPr>
          <p:pic>
            <p:nvPicPr>
              <p:cNvPr id="230" name="Freeform 156" descr=""/>
              <p:cNvPicPr/>
              <p:nvPr/>
            </p:nvPicPr>
            <p:blipFill>
              <a:blip r:embed="rId47"/>
              <a:stretch/>
            </p:blipFill>
            <p:spPr>
              <a:xfrm>
                <a:off x="4663440" y="5895000"/>
                <a:ext cx="786600" cy="83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4670280" y="5902560"/>
                <a:ext cx="773640" cy="82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32" name="Key_B"/>
          <p:cNvGrpSpPr/>
          <p:nvPr/>
        </p:nvGrpSpPr>
        <p:grpSpPr>
          <a:xfrm>
            <a:off x="4705200" y="5973840"/>
            <a:ext cx="658440" cy="707760"/>
            <a:chOff x="4705200" y="5973840"/>
            <a:chExt cx="658440" cy="707760"/>
          </a:xfrm>
        </p:grpSpPr>
        <p:pic>
          <p:nvPicPr>
            <p:cNvPr id="233" name="Key_B" descr=""/>
            <p:cNvPicPr/>
            <p:nvPr/>
          </p:nvPicPr>
          <p:blipFill>
            <a:blip r:embed="rId48"/>
            <a:stretch/>
          </p:blipFill>
          <p:spPr>
            <a:xfrm>
              <a:off x="4705200" y="5975280"/>
              <a:ext cx="65556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4708080" y="5973840"/>
              <a:ext cx="65556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5" name="Group 173"/>
          <p:cNvGrpSpPr/>
          <p:nvPr/>
        </p:nvGrpSpPr>
        <p:grpSpPr>
          <a:xfrm>
            <a:off x="5472000" y="5883120"/>
            <a:ext cx="838440" cy="849600"/>
            <a:chOff x="5472000" y="5883120"/>
            <a:chExt cx="838440" cy="849600"/>
          </a:xfrm>
        </p:grpSpPr>
        <p:sp>
          <p:nvSpPr>
            <p:cNvPr id="236" name="Freeform 155"/>
            <p:cNvSpPr/>
            <p:nvPr/>
          </p:nvSpPr>
          <p:spPr>
            <a:xfrm>
              <a:off x="5472000" y="5883120"/>
              <a:ext cx="829440" cy="84312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7" name="Freeform 156"/>
            <p:cNvGrpSpPr/>
            <p:nvPr/>
          </p:nvGrpSpPr>
          <p:grpSpPr>
            <a:xfrm>
              <a:off x="5523120" y="5895000"/>
              <a:ext cx="787320" cy="837720"/>
              <a:chOff x="5523120" y="5895000"/>
              <a:chExt cx="787320" cy="837720"/>
            </a:xfrm>
          </p:grpSpPr>
          <p:pic>
            <p:nvPicPr>
              <p:cNvPr id="238" name="Freeform 156" descr=""/>
              <p:cNvPicPr/>
              <p:nvPr/>
            </p:nvPicPr>
            <p:blipFill>
              <a:blip r:embed="rId49"/>
              <a:stretch/>
            </p:blipFill>
            <p:spPr>
              <a:xfrm>
                <a:off x="5523120" y="5895000"/>
                <a:ext cx="787320" cy="83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5530680" y="5902560"/>
                <a:ext cx="774360" cy="82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0" name="Key_N"/>
          <p:cNvGrpSpPr/>
          <p:nvPr/>
        </p:nvGrpSpPr>
        <p:grpSpPr>
          <a:xfrm>
            <a:off x="5572080" y="5973840"/>
            <a:ext cx="652680" cy="707760"/>
            <a:chOff x="5572080" y="5973840"/>
            <a:chExt cx="652680" cy="707760"/>
          </a:xfrm>
        </p:grpSpPr>
        <p:pic>
          <p:nvPicPr>
            <p:cNvPr id="241" name="Key_N" descr=""/>
            <p:cNvPicPr/>
            <p:nvPr/>
          </p:nvPicPr>
          <p:blipFill>
            <a:blip r:embed="rId50"/>
            <a:stretch/>
          </p:blipFill>
          <p:spPr>
            <a:xfrm>
              <a:off x="5574960" y="5975280"/>
              <a:ext cx="64656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5572080" y="5973840"/>
              <a:ext cx="6526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Group 177"/>
          <p:cNvGrpSpPr/>
          <p:nvPr/>
        </p:nvGrpSpPr>
        <p:grpSpPr>
          <a:xfrm>
            <a:off x="6330960" y="5883120"/>
            <a:ext cx="839880" cy="849600"/>
            <a:chOff x="6330960" y="5883120"/>
            <a:chExt cx="839880" cy="849600"/>
          </a:xfrm>
        </p:grpSpPr>
        <p:sp>
          <p:nvSpPr>
            <p:cNvPr id="244" name="Freeform 155"/>
            <p:cNvSpPr/>
            <p:nvPr/>
          </p:nvSpPr>
          <p:spPr>
            <a:xfrm>
              <a:off x="6330960" y="5883120"/>
              <a:ext cx="831600" cy="843120"/>
            </a:xfrm>
            <a:custGeom>
              <a:avLst/>
              <a:gdLst/>
              <a:ahLst/>
              <a:rect l="l" t="t" r="r" b="b"/>
              <a:pathLst>
                <a:path w="1110" h="1126">
                  <a:moveTo>
                    <a:pt x="1110" y="966"/>
                  </a:moveTo>
                  <a:lnTo>
                    <a:pt x="1110" y="966"/>
                  </a:lnTo>
                  <a:lnTo>
                    <a:pt x="1108" y="982"/>
                  </a:lnTo>
                  <a:lnTo>
                    <a:pt x="1106" y="998"/>
                  </a:lnTo>
                  <a:lnTo>
                    <a:pt x="1102" y="1014"/>
                  </a:lnTo>
                  <a:lnTo>
                    <a:pt x="1096" y="1028"/>
                  </a:lnTo>
                  <a:lnTo>
                    <a:pt x="1090" y="1042"/>
                  </a:lnTo>
                  <a:lnTo>
                    <a:pt x="1082" y="1056"/>
                  </a:lnTo>
                  <a:lnTo>
                    <a:pt x="1072" y="1068"/>
                  </a:lnTo>
                  <a:lnTo>
                    <a:pt x="1062" y="1080"/>
                  </a:lnTo>
                  <a:lnTo>
                    <a:pt x="1052" y="1090"/>
                  </a:lnTo>
                  <a:lnTo>
                    <a:pt x="1038" y="1100"/>
                  </a:lnTo>
                  <a:lnTo>
                    <a:pt x="1026" y="1108"/>
                  </a:lnTo>
                  <a:lnTo>
                    <a:pt x="1012" y="1114"/>
                  </a:lnTo>
                  <a:lnTo>
                    <a:pt x="996" y="1120"/>
                  </a:lnTo>
                  <a:lnTo>
                    <a:pt x="982" y="1124"/>
                  </a:lnTo>
                  <a:lnTo>
                    <a:pt x="966" y="1126"/>
                  </a:lnTo>
                  <a:lnTo>
                    <a:pt x="950" y="1126"/>
                  </a:lnTo>
                  <a:lnTo>
                    <a:pt x="160" y="1126"/>
                  </a:lnTo>
                  <a:lnTo>
                    <a:pt x="160" y="1126"/>
                  </a:lnTo>
                  <a:lnTo>
                    <a:pt x="144" y="1126"/>
                  </a:lnTo>
                  <a:lnTo>
                    <a:pt x="128" y="1124"/>
                  </a:lnTo>
                  <a:lnTo>
                    <a:pt x="112" y="1120"/>
                  </a:lnTo>
                  <a:lnTo>
                    <a:pt x="98" y="1114"/>
                  </a:lnTo>
                  <a:lnTo>
                    <a:pt x="84" y="1108"/>
                  </a:lnTo>
                  <a:lnTo>
                    <a:pt x="70" y="1100"/>
                  </a:lnTo>
                  <a:lnTo>
                    <a:pt x="58" y="1090"/>
                  </a:lnTo>
                  <a:lnTo>
                    <a:pt x="46" y="1080"/>
                  </a:lnTo>
                  <a:lnTo>
                    <a:pt x="36" y="1068"/>
                  </a:lnTo>
                  <a:lnTo>
                    <a:pt x="28" y="1056"/>
                  </a:lnTo>
                  <a:lnTo>
                    <a:pt x="20" y="1042"/>
                  </a:lnTo>
                  <a:lnTo>
                    <a:pt x="12" y="1028"/>
                  </a:lnTo>
                  <a:lnTo>
                    <a:pt x="8" y="1014"/>
                  </a:lnTo>
                  <a:lnTo>
                    <a:pt x="4" y="998"/>
                  </a:lnTo>
                  <a:lnTo>
                    <a:pt x="0" y="982"/>
                  </a:lnTo>
                  <a:lnTo>
                    <a:pt x="0" y="9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4" y="128"/>
                  </a:lnTo>
                  <a:lnTo>
                    <a:pt x="8" y="112"/>
                  </a:lnTo>
                  <a:lnTo>
                    <a:pt x="12" y="98"/>
                  </a:lnTo>
                  <a:lnTo>
                    <a:pt x="20" y="84"/>
                  </a:lnTo>
                  <a:lnTo>
                    <a:pt x="28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18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950" y="0"/>
                  </a:lnTo>
                  <a:lnTo>
                    <a:pt x="950" y="0"/>
                  </a:lnTo>
                  <a:lnTo>
                    <a:pt x="966" y="0"/>
                  </a:lnTo>
                  <a:lnTo>
                    <a:pt x="982" y="2"/>
                  </a:lnTo>
                  <a:lnTo>
                    <a:pt x="998" y="6"/>
                  </a:lnTo>
                  <a:lnTo>
                    <a:pt x="1012" y="10"/>
                  </a:lnTo>
                  <a:lnTo>
                    <a:pt x="1026" y="18"/>
                  </a:lnTo>
                  <a:lnTo>
                    <a:pt x="1040" y="24"/>
                  </a:lnTo>
                  <a:lnTo>
                    <a:pt x="1052" y="34"/>
                  </a:lnTo>
                  <a:lnTo>
                    <a:pt x="1064" y="44"/>
                  </a:lnTo>
                  <a:lnTo>
                    <a:pt x="1074" y="54"/>
                  </a:lnTo>
                  <a:lnTo>
                    <a:pt x="1084" y="66"/>
                  </a:lnTo>
                  <a:lnTo>
                    <a:pt x="1092" y="80"/>
                  </a:lnTo>
                  <a:lnTo>
                    <a:pt x="1098" y="94"/>
                  </a:lnTo>
                  <a:lnTo>
                    <a:pt x="1104" y="110"/>
                  </a:lnTo>
                  <a:lnTo>
                    <a:pt x="1106" y="126"/>
                  </a:lnTo>
                  <a:lnTo>
                    <a:pt x="1110" y="142"/>
                  </a:lnTo>
                  <a:lnTo>
                    <a:pt x="1110" y="160"/>
                  </a:lnTo>
                  <a:lnTo>
                    <a:pt x="1110" y="966"/>
                  </a:lnTo>
                  <a:close/>
                </a:path>
              </a:pathLst>
            </a:custGeom>
            <a:gradFill rotWithShape="0">
              <a:gsLst>
                <a:gs pos="0">
                  <a:srgbClr val="8d8d8d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5" name="Freeform 156"/>
            <p:cNvGrpSpPr/>
            <p:nvPr/>
          </p:nvGrpSpPr>
          <p:grpSpPr>
            <a:xfrm>
              <a:off x="6381360" y="5895000"/>
              <a:ext cx="789480" cy="837720"/>
              <a:chOff x="6381360" y="5895000"/>
              <a:chExt cx="789480" cy="837720"/>
            </a:xfrm>
          </p:grpSpPr>
          <p:pic>
            <p:nvPicPr>
              <p:cNvPr id="246" name="Freeform 156" descr=""/>
              <p:cNvPicPr/>
              <p:nvPr/>
            </p:nvPicPr>
            <p:blipFill>
              <a:blip r:embed="rId51"/>
              <a:stretch/>
            </p:blipFill>
            <p:spPr>
              <a:xfrm>
                <a:off x="6381360" y="5895000"/>
                <a:ext cx="789480" cy="83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6389640" y="5902560"/>
                <a:ext cx="776160" cy="82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8" name="Key_M"/>
          <p:cNvGrpSpPr/>
          <p:nvPr/>
        </p:nvGrpSpPr>
        <p:grpSpPr>
          <a:xfrm>
            <a:off x="6431040" y="5973840"/>
            <a:ext cx="658440" cy="707760"/>
            <a:chOff x="6431040" y="5973840"/>
            <a:chExt cx="658440" cy="707760"/>
          </a:xfrm>
        </p:grpSpPr>
        <p:pic>
          <p:nvPicPr>
            <p:cNvPr id="249" name="Key_M" descr=""/>
            <p:cNvPicPr/>
            <p:nvPr/>
          </p:nvPicPr>
          <p:blipFill>
            <a:blip r:embed="rId52"/>
            <a:stretch/>
          </p:blipFill>
          <p:spPr>
            <a:xfrm>
              <a:off x="6432480" y="5975280"/>
              <a:ext cx="65700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431040" y="5973840"/>
              <a:ext cx="65556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1" name="coverQ"/>
          <p:cNvSpPr/>
          <p:nvPr/>
        </p:nvSpPr>
        <p:spPr>
          <a:xfrm>
            <a:off x="264960" y="4059360"/>
            <a:ext cx="841680" cy="850680"/>
          </a:xfrm>
          <a:custGeom>
            <a:avLst/>
            <a:gdLst>
              <a:gd name="textAreaLeft" fmla="*/ 33840 w 841680"/>
              <a:gd name="textAreaRight" fmla="*/ 807840 w 841680"/>
              <a:gd name="textAreaTop" fmla="*/ 33840 h 850680"/>
              <a:gd name="textAreaBottom" fmla="*/ 816840 h 850680"/>
            </a:gdLst>
            <a:ahLst/>
            <a:rect l="textAreaLeft" t="textAreaTop" r="textAreaRight" b="textAreaBottom"/>
            <a:pathLst>
              <a:path w="21600" h="21831">
                <a:moveTo>
                  <a:pt x="2989" y="0"/>
                </a:moveTo>
                <a:arcTo wR="2989" hR="2989" stAng="16200000" swAng="-5400000"/>
                <a:lnTo>
                  <a:pt x="0" y="18842"/>
                </a:lnTo>
                <a:arcTo wR="2989" hR="2989" stAng="10800000" swAng="-5400000"/>
                <a:lnTo>
                  <a:pt x="18611" y="21831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coverW"/>
          <p:cNvSpPr/>
          <p:nvPr/>
        </p:nvSpPr>
        <p:spPr>
          <a:xfrm>
            <a:off x="1122480" y="4060800"/>
            <a:ext cx="841320" cy="851040"/>
          </a:xfrm>
          <a:custGeom>
            <a:avLst/>
            <a:gdLst>
              <a:gd name="textAreaLeft" fmla="*/ 33840 w 841320"/>
              <a:gd name="textAreaRight" fmla="*/ 807480 w 841320"/>
              <a:gd name="textAreaTop" fmla="*/ 33840 h 851040"/>
              <a:gd name="textAreaBottom" fmla="*/ 817200 h 851040"/>
            </a:gdLst>
            <a:ahLst/>
            <a:rect l="textAreaLeft" t="textAreaTop" r="textAreaRight" b="textAreaBottom"/>
            <a:pathLst>
              <a:path w="21600" h="21849">
                <a:moveTo>
                  <a:pt x="2989" y="0"/>
                </a:moveTo>
                <a:arcTo wR="2989" hR="2989" stAng="16200000" swAng="-5400000"/>
                <a:lnTo>
                  <a:pt x="0" y="18860"/>
                </a:lnTo>
                <a:arcTo wR="2989" hR="2989" stAng="10800000" swAng="-5400000"/>
                <a:lnTo>
                  <a:pt x="18611" y="21849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coverE"/>
          <p:cNvSpPr/>
          <p:nvPr/>
        </p:nvSpPr>
        <p:spPr>
          <a:xfrm>
            <a:off x="1984320" y="4057560"/>
            <a:ext cx="841320" cy="851040"/>
          </a:xfrm>
          <a:custGeom>
            <a:avLst/>
            <a:gdLst>
              <a:gd name="textAreaLeft" fmla="*/ 33840 w 841320"/>
              <a:gd name="textAreaRight" fmla="*/ 807480 w 841320"/>
              <a:gd name="textAreaTop" fmla="*/ 33840 h 851040"/>
              <a:gd name="textAreaBottom" fmla="*/ 817200 h 851040"/>
            </a:gdLst>
            <a:ahLst/>
            <a:rect l="textAreaLeft" t="textAreaTop" r="textAreaRight" b="textAreaBottom"/>
            <a:pathLst>
              <a:path w="21600" h="21849">
                <a:moveTo>
                  <a:pt x="2989" y="0"/>
                </a:moveTo>
                <a:arcTo wR="2989" hR="2989" stAng="16200000" swAng="-5400000"/>
                <a:lnTo>
                  <a:pt x="0" y="18860"/>
                </a:lnTo>
                <a:arcTo wR="2989" hR="2989" stAng="10800000" swAng="-5400000"/>
                <a:lnTo>
                  <a:pt x="18611" y="21849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verR"/>
          <p:cNvSpPr/>
          <p:nvPr/>
        </p:nvSpPr>
        <p:spPr>
          <a:xfrm>
            <a:off x="2844720" y="4057560"/>
            <a:ext cx="843120" cy="849240"/>
          </a:xfrm>
          <a:custGeom>
            <a:avLst/>
            <a:gdLst>
              <a:gd name="textAreaLeft" fmla="*/ 33840 w 843120"/>
              <a:gd name="textAreaRight" fmla="*/ 809280 w 843120"/>
              <a:gd name="textAreaTop" fmla="*/ 33840 h 849240"/>
              <a:gd name="textAreaBottom" fmla="*/ 815400 h 849240"/>
            </a:gdLst>
            <a:ahLst/>
            <a:rect l="textAreaLeft" t="textAreaTop" r="textAreaRight" b="textAreaBottom"/>
            <a:pathLst>
              <a:path w="21600" h="21757">
                <a:moveTo>
                  <a:pt x="2989" y="0"/>
                </a:moveTo>
                <a:arcTo wR="2989" hR="2989" stAng="16200000" swAng="-5400000"/>
                <a:lnTo>
                  <a:pt x="0" y="18768"/>
                </a:lnTo>
                <a:arcTo wR="2989" hR="2989" stAng="10800000" swAng="-5400000"/>
                <a:lnTo>
                  <a:pt x="18611" y="21757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verT"/>
          <p:cNvSpPr/>
          <p:nvPr/>
        </p:nvSpPr>
        <p:spPr>
          <a:xfrm>
            <a:off x="3699000" y="4059360"/>
            <a:ext cx="842760" cy="849240"/>
          </a:xfrm>
          <a:custGeom>
            <a:avLst/>
            <a:gdLst>
              <a:gd name="textAreaLeft" fmla="*/ 33840 w 842760"/>
              <a:gd name="textAreaRight" fmla="*/ 808920 w 842760"/>
              <a:gd name="textAreaTop" fmla="*/ 33840 h 849240"/>
              <a:gd name="textAreaBottom" fmla="*/ 815400 h 849240"/>
            </a:gdLst>
            <a:ahLst/>
            <a:rect l="textAreaLeft" t="textAreaTop" r="textAreaRight" b="textAreaBottom"/>
            <a:pathLst>
              <a:path w="21600" h="21766">
                <a:moveTo>
                  <a:pt x="2989" y="0"/>
                </a:moveTo>
                <a:arcTo wR="2989" hR="2989" stAng="16200000" swAng="-5400000"/>
                <a:lnTo>
                  <a:pt x="0" y="18777"/>
                </a:lnTo>
                <a:arcTo wR="2989" hR="2989" stAng="10800000" swAng="-5400000"/>
                <a:lnTo>
                  <a:pt x="18611" y="21766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verY"/>
          <p:cNvSpPr/>
          <p:nvPr/>
        </p:nvSpPr>
        <p:spPr>
          <a:xfrm>
            <a:off x="4560840" y="4057560"/>
            <a:ext cx="841320" cy="851040"/>
          </a:xfrm>
          <a:custGeom>
            <a:avLst/>
            <a:gdLst>
              <a:gd name="textAreaLeft" fmla="*/ 33840 w 841320"/>
              <a:gd name="textAreaRight" fmla="*/ 807480 w 841320"/>
              <a:gd name="textAreaTop" fmla="*/ 33840 h 851040"/>
              <a:gd name="textAreaBottom" fmla="*/ 817200 h 851040"/>
            </a:gdLst>
            <a:ahLst/>
            <a:rect l="textAreaLeft" t="textAreaTop" r="textAreaRight" b="textAreaBottom"/>
            <a:pathLst>
              <a:path w="21600" h="21849">
                <a:moveTo>
                  <a:pt x="2989" y="0"/>
                </a:moveTo>
                <a:arcTo wR="2989" hR="2989" stAng="16200000" swAng="-5400000"/>
                <a:lnTo>
                  <a:pt x="0" y="18860"/>
                </a:lnTo>
                <a:arcTo wR="2989" hR="2989" stAng="10800000" swAng="-5400000"/>
                <a:lnTo>
                  <a:pt x="18611" y="21849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coverU"/>
          <p:cNvSpPr/>
          <p:nvPr/>
        </p:nvSpPr>
        <p:spPr>
          <a:xfrm>
            <a:off x="5423040" y="4057560"/>
            <a:ext cx="841320" cy="849240"/>
          </a:xfrm>
          <a:custGeom>
            <a:avLst/>
            <a:gdLst>
              <a:gd name="textAreaLeft" fmla="*/ 33840 w 841320"/>
              <a:gd name="textAreaRight" fmla="*/ 807480 w 841320"/>
              <a:gd name="textAreaTop" fmla="*/ 33840 h 849240"/>
              <a:gd name="textAreaBottom" fmla="*/ 815400 h 849240"/>
            </a:gdLst>
            <a:ahLst/>
            <a:rect l="textAreaLeft" t="textAreaTop" r="textAreaRight" b="textAreaBottom"/>
            <a:pathLst>
              <a:path w="21600" h="21803">
                <a:moveTo>
                  <a:pt x="2989" y="0"/>
                </a:moveTo>
                <a:arcTo wR="2989" hR="2989" stAng="16200000" swAng="-5400000"/>
                <a:lnTo>
                  <a:pt x="0" y="18814"/>
                </a:lnTo>
                <a:arcTo wR="2989" hR="2989" stAng="10800000" swAng="-5400000"/>
                <a:lnTo>
                  <a:pt x="18611" y="21803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coverI"/>
          <p:cNvSpPr/>
          <p:nvPr/>
        </p:nvSpPr>
        <p:spPr>
          <a:xfrm>
            <a:off x="6281640" y="4059360"/>
            <a:ext cx="841320" cy="849240"/>
          </a:xfrm>
          <a:custGeom>
            <a:avLst/>
            <a:gdLst>
              <a:gd name="textAreaLeft" fmla="*/ 33840 w 841320"/>
              <a:gd name="textAreaRight" fmla="*/ 807480 w 841320"/>
              <a:gd name="textAreaTop" fmla="*/ 33840 h 849240"/>
              <a:gd name="textAreaBottom" fmla="*/ 815400 h 849240"/>
            </a:gdLst>
            <a:ahLst/>
            <a:rect l="textAreaLeft" t="textAreaTop" r="textAreaRight" b="textAreaBottom"/>
            <a:pathLst>
              <a:path w="21600" h="21803">
                <a:moveTo>
                  <a:pt x="2989" y="0"/>
                </a:moveTo>
                <a:arcTo wR="2989" hR="2989" stAng="16200000" swAng="-5400000"/>
                <a:lnTo>
                  <a:pt x="0" y="18814"/>
                </a:lnTo>
                <a:arcTo wR="2989" hR="2989" stAng="10800000" swAng="-5400000"/>
                <a:lnTo>
                  <a:pt x="18611" y="21803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coverO"/>
          <p:cNvSpPr/>
          <p:nvPr/>
        </p:nvSpPr>
        <p:spPr>
          <a:xfrm>
            <a:off x="7143840" y="4057560"/>
            <a:ext cx="841320" cy="851040"/>
          </a:xfrm>
          <a:custGeom>
            <a:avLst/>
            <a:gdLst>
              <a:gd name="textAreaLeft" fmla="*/ 33840 w 841320"/>
              <a:gd name="textAreaRight" fmla="*/ 807480 w 841320"/>
              <a:gd name="textAreaTop" fmla="*/ 33840 h 851040"/>
              <a:gd name="textAreaBottom" fmla="*/ 817200 h 851040"/>
            </a:gdLst>
            <a:ahLst/>
            <a:rect l="textAreaLeft" t="textAreaTop" r="textAreaRight" b="textAreaBottom"/>
            <a:pathLst>
              <a:path w="21600" h="21849">
                <a:moveTo>
                  <a:pt x="2989" y="0"/>
                </a:moveTo>
                <a:arcTo wR="2989" hR="2989" stAng="16200000" swAng="-5400000"/>
                <a:lnTo>
                  <a:pt x="0" y="18860"/>
                </a:lnTo>
                <a:arcTo wR="2989" hR="2989" stAng="10800000" swAng="-5400000"/>
                <a:lnTo>
                  <a:pt x="18611" y="21849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verP"/>
          <p:cNvSpPr/>
          <p:nvPr/>
        </p:nvSpPr>
        <p:spPr>
          <a:xfrm>
            <a:off x="8002440" y="4052880"/>
            <a:ext cx="841680" cy="849240"/>
          </a:xfrm>
          <a:custGeom>
            <a:avLst/>
            <a:gdLst>
              <a:gd name="textAreaLeft" fmla="*/ 33840 w 841680"/>
              <a:gd name="textAreaRight" fmla="*/ 807840 w 841680"/>
              <a:gd name="textAreaTop" fmla="*/ 33840 h 849240"/>
              <a:gd name="textAreaBottom" fmla="*/ 815400 h 849240"/>
            </a:gdLst>
            <a:ahLst/>
            <a:rect l="textAreaLeft" t="textAreaTop" r="textAreaRight" b="textAreaBottom"/>
            <a:pathLst>
              <a:path w="21600" h="21794">
                <a:moveTo>
                  <a:pt x="2989" y="0"/>
                </a:moveTo>
                <a:arcTo wR="2989" hR="2989" stAng="16200000" swAng="-5400000"/>
                <a:lnTo>
                  <a:pt x="0" y="18805"/>
                </a:lnTo>
                <a:arcTo wR="2989" hR="2989" stAng="10800000" swAng="-5400000"/>
                <a:lnTo>
                  <a:pt x="18611" y="21794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verA"/>
          <p:cNvSpPr/>
          <p:nvPr/>
        </p:nvSpPr>
        <p:spPr>
          <a:xfrm>
            <a:off x="623880" y="4970520"/>
            <a:ext cx="843120" cy="849240"/>
          </a:xfrm>
          <a:custGeom>
            <a:avLst/>
            <a:gdLst>
              <a:gd name="textAreaLeft" fmla="*/ 33840 w 843120"/>
              <a:gd name="textAreaRight" fmla="*/ 809280 w 843120"/>
              <a:gd name="textAreaTop" fmla="*/ 33840 h 849240"/>
              <a:gd name="textAreaBottom" fmla="*/ 815400 h 849240"/>
            </a:gdLst>
            <a:ahLst/>
            <a:rect l="textAreaLeft" t="textAreaTop" r="textAreaRight" b="textAreaBottom"/>
            <a:pathLst>
              <a:path w="21600" h="21757">
                <a:moveTo>
                  <a:pt x="2989" y="0"/>
                </a:moveTo>
                <a:arcTo wR="2989" hR="2989" stAng="16200000" swAng="-5400000"/>
                <a:lnTo>
                  <a:pt x="0" y="18768"/>
                </a:lnTo>
                <a:arcTo wR="2989" hR="2989" stAng="10800000" swAng="-5400000"/>
                <a:lnTo>
                  <a:pt x="18611" y="21757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verS"/>
          <p:cNvSpPr/>
          <p:nvPr/>
        </p:nvSpPr>
        <p:spPr>
          <a:xfrm>
            <a:off x="1481040" y="4971960"/>
            <a:ext cx="841320" cy="849240"/>
          </a:xfrm>
          <a:custGeom>
            <a:avLst/>
            <a:gdLst>
              <a:gd name="textAreaLeft" fmla="*/ 33840 w 841320"/>
              <a:gd name="textAreaRight" fmla="*/ 807480 w 841320"/>
              <a:gd name="textAreaTop" fmla="*/ 33840 h 849240"/>
              <a:gd name="textAreaBottom" fmla="*/ 815400 h 849240"/>
            </a:gdLst>
            <a:ahLst/>
            <a:rect l="textAreaLeft" t="textAreaTop" r="textAreaRight" b="textAreaBottom"/>
            <a:pathLst>
              <a:path w="21600" h="21803">
                <a:moveTo>
                  <a:pt x="2989" y="0"/>
                </a:moveTo>
                <a:arcTo wR="2989" hR="2989" stAng="16200000" swAng="-5400000"/>
                <a:lnTo>
                  <a:pt x="0" y="18814"/>
                </a:lnTo>
                <a:arcTo wR="2989" hR="2989" stAng="10800000" swAng="-5400000"/>
                <a:lnTo>
                  <a:pt x="18611" y="21803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coverD"/>
          <p:cNvSpPr/>
          <p:nvPr/>
        </p:nvSpPr>
        <p:spPr>
          <a:xfrm>
            <a:off x="2343240" y="4968720"/>
            <a:ext cx="841320" cy="849600"/>
          </a:xfrm>
          <a:custGeom>
            <a:avLst/>
            <a:gdLst>
              <a:gd name="textAreaLeft" fmla="*/ 33840 w 841320"/>
              <a:gd name="textAreaRight" fmla="*/ 807480 w 841320"/>
              <a:gd name="textAreaTop" fmla="*/ 33840 h 849600"/>
              <a:gd name="textAreaBottom" fmla="*/ 815760 h 849600"/>
            </a:gdLst>
            <a:ahLst/>
            <a:rect l="textAreaLeft" t="textAreaTop" r="textAreaRight" b="textAreaBottom"/>
            <a:pathLst>
              <a:path w="21600" h="21812">
                <a:moveTo>
                  <a:pt x="2989" y="0"/>
                </a:moveTo>
                <a:arcTo wR="2989" hR="2989" stAng="16200000" swAng="-5400000"/>
                <a:lnTo>
                  <a:pt x="0" y="18823"/>
                </a:lnTo>
                <a:arcTo wR="2989" hR="2989" stAng="10800000" swAng="-5400000"/>
                <a:lnTo>
                  <a:pt x="18611" y="21812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coverF"/>
          <p:cNvSpPr/>
          <p:nvPr/>
        </p:nvSpPr>
        <p:spPr>
          <a:xfrm>
            <a:off x="3203640" y="4967280"/>
            <a:ext cx="842760" cy="851040"/>
          </a:xfrm>
          <a:custGeom>
            <a:avLst/>
            <a:gdLst>
              <a:gd name="textAreaLeft" fmla="*/ 33840 w 842760"/>
              <a:gd name="textAreaRight" fmla="*/ 808920 w 842760"/>
              <a:gd name="textAreaTop" fmla="*/ 33840 h 851040"/>
              <a:gd name="textAreaBottom" fmla="*/ 817200 h 851040"/>
            </a:gdLst>
            <a:ahLst/>
            <a:rect l="textAreaLeft" t="textAreaTop" r="textAreaRight" b="textAreaBottom"/>
            <a:pathLst>
              <a:path w="21600" h="21812">
                <a:moveTo>
                  <a:pt x="2989" y="0"/>
                </a:moveTo>
                <a:arcTo wR="2989" hR="2989" stAng="16200000" swAng="-5400000"/>
                <a:lnTo>
                  <a:pt x="0" y="18823"/>
                </a:lnTo>
                <a:arcTo wR="2989" hR="2989" stAng="10800000" swAng="-5400000"/>
                <a:lnTo>
                  <a:pt x="18611" y="21812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coverG"/>
          <p:cNvSpPr/>
          <p:nvPr/>
        </p:nvSpPr>
        <p:spPr>
          <a:xfrm>
            <a:off x="4059360" y="4968720"/>
            <a:ext cx="841320" cy="851040"/>
          </a:xfrm>
          <a:custGeom>
            <a:avLst/>
            <a:gdLst>
              <a:gd name="textAreaLeft" fmla="*/ 33840 w 841320"/>
              <a:gd name="textAreaRight" fmla="*/ 807480 w 841320"/>
              <a:gd name="textAreaTop" fmla="*/ 33840 h 851040"/>
              <a:gd name="textAreaBottom" fmla="*/ 817200 h 851040"/>
            </a:gdLst>
            <a:ahLst/>
            <a:rect l="textAreaLeft" t="textAreaTop" r="textAreaRight" b="textAreaBottom"/>
            <a:pathLst>
              <a:path w="21600" h="21849">
                <a:moveTo>
                  <a:pt x="2989" y="0"/>
                </a:moveTo>
                <a:arcTo wR="2989" hR="2989" stAng="16200000" swAng="-5400000"/>
                <a:lnTo>
                  <a:pt x="0" y="18860"/>
                </a:lnTo>
                <a:arcTo wR="2989" hR="2989" stAng="10800000" swAng="-5400000"/>
                <a:lnTo>
                  <a:pt x="18611" y="21849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verH"/>
          <p:cNvSpPr/>
          <p:nvPr/>
        </p:nvSpPr>
        <p:spPr>
          <a:xfrm>
            <a:off x="4919760" y="4968720"/>
            <a:ext cx="842760" cy="849600"/>
          </a:xfrm>
          <a:custGeom>
            <a:avLst/>
            <a:gdLst>
              <a:gd name="textAreaLeft" fmla="*/ 33840 w 842760"/>
              <a:gd name="textAreaRight" fmla="*/ 808920 w 842760"/>
              <a:gd name="textAreaTop" fmla="*/ 33840 h 849600"/>
              <a:gd name="textAreaBottom" fmla="*/ 815760 h 849600"/>
            </a:gdLst>
            <a:ahLst/>
            <a:rect l="textAreaLeft" t="textAreaTop" r="textAreaRight" b="textAreaBottom"/>
            <a:pathLst>
              <a:path w="21600" h="21775">
                <a:moveTo>
                  <a:pt x="2989" y="0"/>
                </a:moveTo>
                <a:arcTo wR="2989" hR="2989" stAng="16200000" swAng="-5400000"/>
                <a:lnTo>
                  <a:pt x="0" y="18786"/>
                </a:lnTo>
                <a:arcTo wR="2989" hR="2989" stAng="10800000" swAng="-5400000"/>
                <a:lnTo>
                  <a:pt x="18611" y="21775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verJ"/>
          <p:cNvSpPr/>
          <p:nvPr/>
        </p:nvSpPr>
        <p:spPr>
          <a:xfrm>
            <a:off x="5781600" y="4967280"/>
            <a:ext cx="841320" cy="851040"/>
          </a:xfrm>
          <a:custGeom>
            <a:avLst/>
            <a:gdLst>
              <a:gd name="textAreaLeft" fmla="*/ 33840 w 841320"/>
              <a:gd name="textAreaRight" fmla="*/ 807480 w 841320"/>
              <a:gd name="textAreaTop" fmla="*/ 33840 h 851040"/>
              <a:gd name="textAreaBottom" fmla="*/ 817200 h 851040"/>
            </a:gdLst>
            <a:ahLst/>
            <a:rect l="textAreaLeft" t="textAreaTop" r="textAreaRight" b="textAreaBottom"/>
            <a:pathLst>
              <a:path w="21600" h="21849">
                <a:moveTo>
                  <a:pt x="2989" y="0"/>
                </a:moveTo>
                <a:arcTo wR="2989" hR="2989" stAng="16200000" swAng="-5400000"/>
                <a:lnTo>
                  <a:pt x="0" y="18860"/>
                </a:lnTo>
                <a:arcTo wR="2989" hR="2989" stAng="10800000" swAng="-5400000"/>
                <a:lnTo>
                  <a:pt x="18611" y="21849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verK"/>
          <p:cNvSpPr/>
          <p:nvPr/>
        </p:nvSpPr>
        <p:spPr>
          <a:xfrm>
            <a:off x="6640560" y="4968720"/>
            <a:ext cx="842760" cy="851040"/>
          </a:xfrm>
          <a:custGeom>
            <a:avLst/>
            <a:gdLst>
              <a:gd name="textAreaLeft" fmla="*/ 33840 w 842760"/>
              <a:gd name="textAreaRight" fmla="*/ 808920 w 842760"/>
              <a:gd name="textAreaTop" fmla="*/ 33840 h 851040"/>
              <a:gd name="textAreaBottom" fmla="*/ 817200 h 851040"/>
            </a:gdLst>
            <a:ahLst/>
            <a:rect l="textAreaLeft" t="textAreaTop" r="textAreaRight" b="textAreaBottom"/>
            <a:pathLst>
              <a:path w="21600" h="21812">
                <a:moveTo>
                  <a:pt x="2989" y="0"/>
                </a:moveTo>
                <a:arcTo wR="2989" hR="2989" stAng="16200000" swAng="-5400000"/>
                <a:lnTo>
                  <a:pt x="0" y="18823"/>
                </a:lnTo>
                <a:arcTo wR="2989" hR="2989" stAng="10800000" swAng="-5400000"/>
                <a:lnTo>
                  <a:pt x="18611" y="21812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coverL"/>
          <p:cNvSpPr/>
          <p:nvPr/>
        </p:nvSpPr>
        <p:spPr>
          <a:xfrm>
            <a:off x="7502400" y="4968720"/>
            <a:ext cx="841680" cy="849600"/>
          </a:xfrm>
          <a:custGeom>
            <a:avLst/>
            <a:gdLst>
              <a:gd name="textAreaLeft" fmla="*/ 33840 w 841680"/>
              <a:gd name="textAreaRight" fmla="*/ 807840 w 841680"/>
              <a:gd name="textAreaTop" fmla="*/ 33840 h 849600"/>
              <a:gd name="textAreaBottom" fmla="*/ 815760 h 849600"/>
            </a:gdLst>
            <a:ahLst/>
            <a:rect l="textAreaLeft" t="textAreaTop" r="textAreaRight" b="textAreaBottom"/>
            <a:pathLst>
              <a:path w="21600" h="21803">
                <a:moveTo>
                  <a:pt x="2989" y="0"/>
                </a:moveTo>
                <a:arcTo wR="2989" hR="2989" stAng="16200000" swAng="-5400000"/>
                <a:lnTo>
                  <a:pt x="0" y="18814"/>
                </a:lnTo>
                <a:arcTo wR="2989" hR="2989" stAng="10800000" swAng="-5400000"/>
                <a:lnTo>
                  <a:pt x="18611" y="21803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coverZ"/>
          <p:cNvSpPr/>
          <p:nvPr/>
        </p:nvSpPr>
        <p:spPr>
          <a:xfrm>
            <a:off x="1171440" y="5884920"/>
            <a:ext cx="841680" cy="849240"/>
          </a:xfrm>
          <a:custGeom>
            <a:avLst/>
            <a:gdLst>
              <a:gd name="textAreaLeft" fmla="*/ 33840 w 841680"/>
              <a:gd name="textAreaRight" fmla="*/ 807840 w 841680"/>
              <a:gd name="textAreaTop" fmla="*/ 33840 h 849240"/>
              <a:gd name="textAreaBottom" fmla="*/ 815400 h 849240"/>
            </a:gdLst>
            <a:ahLst/>
            <a:rect l="textAreaLeft" t="textAreaTop" r="textAreaRight" b="textAreaBottom"/>
            <a:pathLst>
              <a:path w="21600" h="21794">
                <a:moveTo>
                  <a:pt x="2989" y="0"/>
                </a:moveTo>
                <a:arcTo wR="2989" hR="2989" stAng="16200000" swAng="-5400000"/>
                <a:lnTo>
                  <a:pt x="0" y="18805"/>
                </a:lnTo>
                <a:arcTo wR="2989" hR="2989" stAng="10800000" swAng="-5400000"/>
                <a:lnTo>
                  <a:pt x="18611" y="21794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coverX"/>
          <p:cNvSpPr/>
          <p:nvPr/>
        </p:nvSpPr>
        <p:spPr>
          <a:xfrm>
            <a:off x="2028960" y="5886360"/>
            <a:ext cx="841320" cy="849240"/>
          </a:xfrm>
          <a:custGeom>
            <a:avLst/>
            <a:gdLst>
              <a:gd name="textAreaLeft" fmla="*/ 33840 w 841320"/>
              <a:gd name="textAreaRight" fmla="*/ 807480 w 841320"/>
              <a:gd name="textAreaTop" fmla="*/ 33840 h 849240"/>
              <a:gd name="textAreaBottom" fmla="*/ 815400 h 849240"/>
            </a:gdLst>
            <a:ahLst/>
            <a:rect l="textAreaLeft" t="textAreaTop" r="textAreaRight" b="textAreaBottom"/>
            <a:pathLst>
              <a:path w="21600" h="21803">
                <a:moveTo>
                  <a:pt x="2989" y="0"/>
                </a:moveTo>
                <a:arcTo wR="2989" hR="2989" stAng="16200000" swAng="-5400000"/>
                <a:lnTo>
                  <a:pt x="0" y="18814"/>
                </a:lnTo>
                <a:arcTo wR="2989" hR="2989" stAng="10800000" swAng="-5400000"/>
                <a:lnTo>
                  <a:pt x="18611" y="21803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verC"/>
          <p:cNvSpPr/>
          <p:nvPr/>
        </p:nvSpPr>
        <p:spPr>
          <a:xfrm>
            <a:off x="2890800" y="5883120"/>
            <a:ext cx="841320" cy="849600"/>
          </a:xfrm>
          <a:custGeom>
            <a:avLst/>
            <a:gdLst>
              <a:gd name="textAreaLeft" fmla="*/ 33840 w 841320"/>
              <a:gd name="textAreaRight" fmla="*/ 807480 w 841320"/>
              <a:gd name="textAreaTop" fmla="*/ 33840 h 849600"/>
              <a:gd name="textAreaBottom" fmla="*/ 815760 h 849600"/>
            </a:gdLst>
            <a:ahLst/>
            <a:rect l="textAreaLeft" t="textAreaTop" r="textAreaRight" b="textAreaBottom"/>
            <a:pathLst>
              <a:path w="21600" h="21812">
                <a:moveTo>
                  <a:pt x="2989" y="0"/>
                </a:moveTo>
                <a:arcTo wR="2989" hR="2989" stAng="16200000" swAng="-5400000"/>
                <a:lnTo>
                  <a:pt x="0" y="18823"/>
                </a:lnTo>
                <a:arcTo wR="2989" hR="2989" stAng="10800000" swAng="-5400000"/>
                <a:lnTo>
                  <a:pt x="18611" y="21812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verV"/>
          <p:cNvSpPr/>
          <p:nvPr/>
        </p:nvSpPr>
        <p:spPr>
          <a:xfrm>
            <a:off x="3751200" y="5881680"/>
            <a:ext cx="843120" cy="851040"/>
          </a:xfrm>
          <a:custGeom>
            <a:avLst/>
            <a:gdLst>
              <a:gd name="textAreaLeft" fmla="*/ 33840 w 843120"/>
              <a:gd name="textAreaRight" fmla="*/ 809280 w 843120"/>
              <a:gd name="textAreaTop" fmla="*/ 33840 h 851040"/>
              <a:gd name="textAreaBottom" fmla="*/ 817200 h 851040"/>
            </a:gdLst>
            <a:ahLst/>
            <a:rect l="textAreaLeft" t="textAreaTop" r="textAreaRight" b="textAreaBottom"/>
            <a:pathLst>
              <a:path w="21600" h="21803">
                <a:moveTo>
                  <a:pt x="2989" y="0"/>
                </a:moveTo>
                <a:arcTo wR="2989" hR="2989" stAng="16200000" swAng="-5400000"/>
                <a:lnTo>
                  <a:pt x="0" y="18814"/>
                </a:lnTo>
                <a:arcTo wR="2989" hR="2989" stAng="10800000" swAng="-5400000"/>
                <a:lnTo>
                  <a:pt x="18611" y="21803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verN"/>
          <p:cNvSpPr/>
          <p:nvPr/>
        </p:nvSpPr>
        <p:spPr>
          <a:xfrm>
            <a:off x="5467320" y="5883120"/>
            <a:ext cx="841320" cy="849600"/>
          </a:xfrm>
          <a:custGeom>
            <a:avLst/>
            <a:gdLst>
              <a:gd name="textAreaLeft" fmla="*/ 33840 w 841320"/>
              <a:gd name="textAreaRight" fmla="*/ 807480 w 841320"/>
              <a:gd name="textAreaTop" fmla="*/ 33840 h 849600"/>
              <a:gd name="textAreaBottom" fmla="*/ 815760 h 849600"/>
            </a:gdLst>
            <a:ahLst/>
            <a:rect l="textAreaLeft" t="textAreaTop" r="textAreaRight" b="textAreaBottom"/>
            <a:pathLst>
              <a:path w="21600" h="21812">
                <a:moveTo>
                  <a:pt x="2989" y="0"/>
                </a:moveTo>
                <a:arcTo wR="2989" hR="2989" stAng="16200000" swAng="-5400000"/>
                <a:lnTo>
                  <a:pt x="0" y="18823"/>
                </a:lnTo>
                <a:arcTo wR="2989" hR="2989" stAng="10800000" swAng="-5400000"/>
                <a:lnTo>
                  <a:pt x="18611" y="21812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coverM"/>
          <p:cNvSpPr/>
          <p:nvPr/>
        </p:nvSpPr>
        <p:spPr>
          <a:xfrm>
            <a:off x="6329520" y="5881680"/>
            <a:ext cx="841320" cy="851040"/>
          </a:xfrm>
          <a:custGeom>
            <a:avLst/>
            <a:gdLst>
              <a:gd name="textAreaLeft" fmla="*/ 33840 w 841320"/>
              <a:gd name="textAreaRight" fmla="*/ 807480 w 841320"/>
              <a:gd name="textAreaTop" fmla="*/ 33840 h 851040"/>
              <a:gd name="textAreaBottom" fmla="*/ 817200 h 851040"/>
            </a:gdLst>
            <a:ahLst/>
            <a:rect l="textAreaLeft" t="textAreaTop" r="textAreaRight" b="textAreaBottom"/>
            <a:pathLst>
              <a:path w="21600" h="21849">
                <a:moveTo>
                  <a:pt x="2989" y="0"/>
                </a:moveTo>
                <a:arcTo wR="2989" hR="2989" stAng="16200000" swAng="-5400000"/>
                <a:lnTo>
                  <a:pt x="0" y="18860"/>
                </a:lnTo>
                <a:arcTo wR="2989" hR="2989" stAng="10800000" swAng="-5400000"/>
                <a:lnTo>
                  <a:pt x="18611" y="21849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coverB"/>
          <p:cNvSpPr/>
          <p:nvPr/>
        </p:nvSpPr>
        <p:spPr>
          <a:xfrm>
            <a:off x="4605480" y="5883120"/>
            <a:ext cx="842760" cy="851040"/>
          </a:xfrm>
          <a:custGeom>
            <a:avLst/>
            <a:gdLst>
              <a:gd name="textAreaLeft" fmla="*/ 33840 w 842760"/>
              <a:gd name="textAreaRight" fmla="*/ 808920 w 842760"/>
              <a:gd name="textAreaTop" fmla="*/ 33840 h 851040"/>
              <a:gd name="textAreaBottom" fmla="*/ 817200 h 851040"/>
            </a:gdLst>
            <a:ahLst/>
            <a:rect l="textAreaLeft" t="textAreaTop" r="textAreaRight" b="textAreaBottom"/>
            <a:pathLst>
              <a:path w="21600" h="21812">
                <a:moveTo>
                  <a:pt x="2989" y="0"/>
                </a:moveTo>
                <a:arcTo wR="2989" hR="2989" stAng="16200000" swAng="-5400000"/>
                <a:lnTo>
                  <a:pt x="0" y="18823"/>
                </a:lnTo>
                <a:arcTo wR="2989" hR="2989" stAng="10800000" swAng="-5400000"/>
                <a:lnTo>
                  <a:pt x="18611" y="21812"/>
                </a:lnTo>
                <a:arcTo wR="2989" hR="2989" stAng="5400000" swAng="-5400000"/>
                <a:lnTo>
                  <a:pt x="21600" y="2989"/>
                </a:lnTo>
                <a:arcTo wR="2989" hR="2989" stAng="0" swAng="-5400000"/>
                <a:close/>
              </a:path>
            </a:pathLst>
          </a:cu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Upright"/>
          <p:cNvSpPr/>
          <p:nvPr/>
        </p:nvSpPr>
        <p:spPr>
          <a:xfrm>
            <a:off x="539640" y="115920"/>
            <a:ext cx="216000" cy="3317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Base"/>
          <p:cNvSpPr/>
          <p:nvPr/>
        </p:nvSpPr>
        <p:spPr>
          <a:xfrm>
            <a:off x="179280" y="3284640"/>
            <a:ext cx="936720" cy="215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op"/>
          <p:cNvSpPr/>
          <p:nvPr/>
        </p:nvSpPr>
        <p:spPr>
          <a:xfrm>
            <a:off x="671400" y="115920"/>
            <a:ext cx="1482840" cy="217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upport"/>
          <p:cNvSpPr/>
          <p:nvPr/>
        </p:nvSpPr>
        <p:spPr>
          <a:xfrm rot="18887400">
            <a:off x="518400" y="518040"/>
            <a:ext cx="1020600" cy="2062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ope"/>
          <p:cNvSpPr/>
          <p:nvPr/>
        </p:nvSpPr>
        <p:spPr>
          <a:xfrm>
            <a:off x="1984320" y="333360"/>
            <a:ext cx="66600" cy="64764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Body"/>
          <p:cNvSpPr/>
          <p:nvPr/>
        </p:nvSpPr>
        <p:spPr>
          <a:xfrm>
            <a:off x="1992240" y="1171440"/>
            <a:ext cx="71640" cy="6494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Arm1"/>
          <p:cNvSpPr/>
          <p:nvPr/>
        </p:nvSpPr>
        <p:spPr>
          <a:xfrm rot="868200">
            <a:off x="1547640" y="1240920"/>
            <a:ext cx="524160" cy="71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Arm2"/>
          <p:cNvSpPr/>
          <p:nvPr/>
        </p:nvSpPr>
        <p:spPr>
          <a:xfrm rot="9324000">
            <a:off x="1983600" y="1201320"/>
            <a:ext cx="522360" cy="730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Leg1"/>
          <p:cNvSpPr/>
          <p:nvPr/>
        </p:nvSpPr>
        <p:spPr>
          <a:xfrm rot="17877000">
            <a:off x="1524600" y="2073600"/>
            <a:ext cx="693720" cy="72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eg2"/>
          <p:cNvSpPr/>
          <p:nvPr/>
        </p:nvSpPr>
        <p:spPr>
          <a:xfrm flipH="1" rot="3723000">
            <a:off x="1842120" y="2073600"/>
            <a:ext cx="692280" cy="712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Group 239"/>
          <p:cNvGrpSpPr/>
          <p:nvPr/>
        </p:nvGrpSpPr>
        <p:grpSpPr>
          <a:xfrm>
            <a:off x="1836720" y="770040"/>
            <a:ext cx="398520" cy="401400"/>
            <a:chOff x="1836720" y="770040"/>
            <a:chExt cx="398520" cy="401400"/>
          </a:xfrm>
        </p:grpSpPr>
        <p:sp>
          <p:nvSpPr>
            <p:cNvPr id="288" name="Head"/>
            <p:cNvSpPr/>
            <p:nvPr/>
          </p:nvSpPr>
          <p:spPr>
            <a:xfrm>
              <a:off x="1836720" y="772200"/>
              <a:ext cx="398520" cy="399240"/>
            </a:xfrm>
            <a:prstGeom prst="ellipse">
              <a:avLst/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241"/>
            <p:cNvSpPr/>
            <p:nvPr/>
          </p:nvSpPr>
          <p:spPr>
            <a:xfrm>
              <a:off x="1850400" y="770040"/>
              <a:ext cx="375480" cy="150120"/>
            </a:xfrm>
            <a:custGeom>
              <a:avLst/>
              <a:gdLst/>
              <a:ahLst/>
              <a:rect l="l" t="t" r="r" b="b"/>
              <a:pathLst>
                <a:path w="376237" h="150223">
                  <a:moveTo>
                    <a:pt x="0" y="114504"/>
                  </a:moveTo>
                  <a:cubicBezTo>
                    <a:pt x="2778" y="96248"/>
                    <a:pt x="43656" y="54179"/>
                    <a:pt x="66675" y="35923"/>
                  </a:cubicBezTo>
                  <a:cubicBezTo>
                    <a:pt x="89694" y="17667"/>
                    <a:pt x="115887" y="8936"/>
                    <a:pt x="138112" y="4967"/>
                  </a:cubicBezTo>
                  <a:cubicBezTo>
                    <a:pt x="161131" y="3379"/>
                    <a:pt x="187324" y="-987"/>
                    <a:pt x="207168" y="204"/>
                  </a:cubicBezTo>
                  <a:cubicBezTo>
                    <a:pt x="227012" y="1395"/>
                    <a:pt x="240902" y="4570"/>
                    <a:pt x="257174" y="12111"/>
                  </a:cubicBezTo>
                  <a:cubicBezTo>
                    <a:pt x="273446" y="19652"/>
                    <a:pt x="288528" y="30367"/>
                    <a:pt x="304800" y="45448"/>
                  </a:cubicBezTo>
                  <a:cubicBezTo>
                    <a:pt x="321072" y="60529"/>
                    <a:pt x="352425" y="79182"/>
                    <a:pt x="354806" y="102598"/>
                  </a:cubicBezTo>
                  <a:lnTo>
                    <a:pt x="376237" y="128792"/>
                  </a:lnTo>
                  <a:lnTo>
                    <a:pt x="319087" y="119267"/>
                  </a:lnTo>
                  <a:lnTo>
                    <a:pt x="304800" y="150223"/>
                  </a:lnTo>
                  <a:lnTo>
                    <a:pt x="280987" y="114504"/>
                  </a:lnTo>
                  <a:lnTo>
                    <a:pt x="235743" y="147842"/>
                  </a:lnTo>
                  <a:lnTo>
                    <a:pt x="219075" y="107361"/>
                  </a:lnTo>
                  <a:lnTo>
                    <a:pt x="159543" y="140698"/>
                  </a:lnTo>
                  <a:lnTo>
                    <a:pt x="150018" y="107361"/>
                  </a:lnTo>
                  <a:lnTo>
                    <a:pt x="80962" y="140698"/>
                  </a:lnTo>
                  <a:lnTo>
                    <a:pt x="76200" y="109742"/>
                  </a:lnTo>
                  <a:lnTo>
                    <a:pt x="50006" y="145461"/>
                  </a:lnTo>
                  <a:lnTo>
                    <a:pt x="0" y="114504"/>
                  </a:lnTo>
                  <a:close/>
                </a:path>
              </a:pathLst>
            </a:custGeom>
            <a:solidFill>
              <a:srgbClr val="948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0" name="Group 242"/>
          <p:cNvGrpSpPr/>
          <p:nvPr/>
        </p:nvGrpSpPr>
        <p:grpSpPr>
          <a:xfrm>
            <a:off x="1534320" y="684360"/>
            <a:ext cx="951120" cy="1663560"/>
            <a:chOff x="1534320" y="684360"/>
            <a:chExt cx="951120" cy="1663560"/>
          </a:xfrm>
        </p:grpSpPr>
        <p:sp>
          <p:nvSpPr>
            <p:cNvPr id="291" name="Body"/>
            <p:cNvSpPr/>
            <p:nvPr/>
          </p:nvSpPr>
          <p:spPr>
            <a:xfrm>
              <a:off x="1979280" y="1086480"/>
              <a:ext cx="72000" cy="6483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Arm1"/>
            <p:cNvSpPr/>
            <p:nvPr/>
          </p:nvSpPr>
          <p:spPr>
            <a:xfrm rot="868200">
              <a:off x="1534680" y="1154880"/>
              <a:ext cx="523440" cy="72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Arm2"/>
            <p:cNvSpPr/>
            <p:nvPr/>
          </p:nvSpPr>
          <p:spPr>
            <a:xfrm rot="9324000">
              <a:off x="1970640" y="1116000"/>
              <a:ext cx="523440" cy="72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Leg1"/>
            <p:cNvSpPr/>
            <p:nvPr/>
          </p:nvSpPr>
          <p:spPr>
            <a:xfrm rot="17877000">
              <a:off x="1511640" y="1988280"/>
              <a:ext cx="693720" cy="72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Leg2"/>
            <p:cNvSpPr/>
            <p:nvPr/>
          </p:nvSpPr>
          <p:spPr>
            <a:xfrm flipH="1" rot="3723000">
              <a:off x="1829160" y="1987920"/>
              <a:ext cx="693720" cy="72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6" name="Group 248"/>
            <p:cNvGrpSpPr/>
            <p:nvPr/>
          </p:nvGrpSpPr>
          <p:grpSpPr>
            <a:xfrm>
              <a:off x="1823400" y="684360"/>
              <a:ext cx="399960" cy="402120"/>
              <a:chOff x="1823400" y="684360"/>
              <a:chExt cx="399960" cy="402120"/>
            </a:xfrm>
          </p:grpSpPr>
          <p:sp>
            <p:nvSpPr>
              <p:cNvPr id="297" name="Head"/>
              <p:cNvSpPr/>
              <p:nvPr/>
            </p:nvSpPr>
            <p:spPr>
              <a:xfrm>
                <a:off x="1823400" y="686520"/>
                <a:ext cx="399960" cy="399960"/>
              </a:xfrm>
              <a:prstGeom prst="ellipse">
                <a:avLst/>
              </a:pr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Freeform 250"/>
              <p:cNvSpPr/>
              <p:nvPr/>
            </p:nvSpPr>
            <p:spPr>
              <a:xfrm>
                <a:off x="1837080" y="684360"/>
                <a:ext cx="376920" cy="150120"/>
              </a:xfrm>
              <a:custGeom>
                <a:avLst/>
                <a:gdLst/>
                <a:ahLst/>
                <a:rect l="l" t="t" r="r" b="b"/>
                <a:pathLst>
                  <a:path w="376237" h="150223">
                    <a:moveTo>
                      <a:pt x="0" y="114504"/>
                    </a:moveTo>
                    <a:cubicBezTo>
                      <a:pt x="2778" y="96248"/>
                      <a:pt x="43656" y="54179"/>
                      <a:pt x="66675" y="35923"/>
                    </a:cubicBezTo>
                    <a:cubicBezTo>
                      <a:pt x="89694" y="17667"/>
                      <a:pt x="115887" y="8936"/>
                      <a:pt x="138112" y="4967"/>
                    </a:cubicBezTo>
                    <a:cubicBezTo>
                      <a:pt x="161131" y="3379"/>
                      <a:pt x="187324" y="-987"/>
                      <a:pt x="207168" y="204"/>
                    </a:cubicBezTo>
                    <a:cubicBezTo>
                      <a:pt x="227012" y="1395"/>
                      <a:pt x="240902" y="4570"/>
                      <a:pt x="257174" y="12111"/>
                    </a:cubicBezTo>
                    <a:cubicBezTo>
                      <a:pt x="273446" y="19652"/>
                      <a:pt x="288528" y="30367"/>
                      <a:pt x="304800" y="45448"/>
                    </a:cubicBezTo>
                    <a:cubicBezTo>
                      <a:pt x="321072" y="60529"/>
                      <a:pt x="352425" y="79182"/>
                      <a:pt x="354806" y="102598"/>
                    </a:cubicBezTo>
                    <a:lnTo>
                      <a:pt x="376237" y="128792"/>
                    </a:lnTo>
                    <a:lnTo>
                      <a:pt x="319087" y="119267"/>
                    </a:lnTo>
                    <a:lnTo>
                      <a:pt x="304800" y="150223"/>
                    </a:lnTo>
                    <a:lnTo>
                      <a:pt x="280987" y="114504"/>
                    </a:lnTo>
                    <a:lnTo>
                      <a:pt x="235743" y="147842"/>
                    </a:lnTo>
                    <a:lnTo>
                      <a:pt x="219075" y="107361"/>
                    </a:lnTo>
                    <a:lnTo>
                      <a:pt x="159543" y="140698"/>
                    </a:lnTo>
                    <a:lnTo>
                      <a:pt x="150018" y="107361"/>
                    </a:lnTo>
                    <a:lnTo>
                      <a:pt x="80962" y="140698"/>
                    </a:lnTo>
                    <a:lnTo>
                      <a:pt x="76200" y="109742"/>
                    </a:lnTo>
                    <a:lnTo>
                      <a:pt x="50006" y="145461"/>
                    </a:lnTo>
                    <a:lnTo>
                      <a:pt x="0" y="114504"/>
                    </a:lnTo>
                    <a:close/>
                  </a:path>
                </a:pathLst>
              </a:custGeom>
              <a:solidFill>
                <a:srgbClr val="948a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9" name="Well Done">
            <a:hlinkClick r:id="" action="ppaction://hlinkshowjump?jump=nextslide"/>
          </p:cNvPr>
          <p:cNvSpPr/>
          <p:nvPr/>
        </p:nvSpPr>
        <p:spPr>
          <a:xfrm>
            <a:off x="2556000" y="1268280"/>
            <a:ext cx="393372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70c0"/>
                </a:solidFill>
                <a:latin typeface="Calibri"/>
              </a:rPr>
              <a:t>Well Done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70c0"/>
                </a:solidFill>
                <a:latin typeface="Calibri"/>
              </a:rPr>
              <a:t>Click here to go on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cover15" hidden="1"/>
          <p:cNvSpPr/>
          <p:nvPr/>
        </p:nvSpPr>
        <p:spPr>
          <a:xfrm>
            <a:off x="2646360" y="1293840"/>
            <a:ext cx="4035600" cy="15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cover14"/>
          <p:cNvSpPr/>
          <p:nvPr/>
        </p:nvSpPr>
        <p:spPr>
          <a:xfrm>
            <a:off x="2646360" y="1293840"/>
            <a:ext cx="4035600" cy="15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cover13"/>
          <p:cNvSpPr/>
          <p:nvPr/>
        </p:nvSpPr>
        <p:spPr>
          <a:xfrm>
            <a:off x="2646360" y="1293840"/>
            <a:ext cx="4035600" cy="15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cover12"/>
          <p:cNvSpPr/>
          <p:nvPr/>
        </p:nvSpPr>
        <p:spPr>
          <a:xfrm>
            <a:off x="2646360" y="1293840"/>
            <a:ext cx="4035600" cy="15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cover11"/>
          <p:cNvSpPr/>
          <p:nvPr/>
        </p:nvSpPr>
        <p:spPr>
          <a:xfrm>
            <a:off x="2646360" y="1293840"/>
            <a:ext cx="4035600" cy="15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cover10"/>
          <p:cNvSpPr/>
          <p:nvPr/>
        </p:nvSpPr>
        <p:spPr>
          <a:xfrm>
            <a:off x="2646360" y="1293840"/>
            <a:ext cx="4035600" cy="15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cover9"/>
          <p:cNvSpPr/>
          <p:nvPr/>
        </p:nvSpPr>
        <p:spPr>
          <a:xfrm>
            <a:off x="2646360" y="1293840"/>
            <a:ext cx="4035600" cy="15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cover8"/>
          <p:cNvSpPr/>
          <p:nvPr/>
        </p:nvSpPr>
        <p:spPr>
          <a:xfrm>
            <a:off x="2646360" y="1293840"/>
            <a:ext cx="4035600" cy="15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cover7"/>
          <p:cNvSpPr/>
          <p:nvPr/>
        </p:nvSpPr>
        <p:spPr>
          <a:xfrm>
            <a:off x="2496960" y="1376280"/>
            <a:ext cx="4037040" cy="19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cover6"/>
          <p:cNvSpPr/>
          <p:nvPr/>
        </p:nvSpPr>
        <p:spPr>
          <a:xfrm>
            <a:off x="2646360" y="1293840"/>
            <a:ext cx="4035600" cy="15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cover5"/>
          <p:cNvSpPr/>
          <p:nvPr/>
        </p:nvSpPr>
        <p:spPr>
          <a:xfrm>
            <a:off x="2646360" y="1293840"/>
            <a:ext cx="4035600" cy="15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cover4"/>
          <p:cNvSpPr/>
          <p:nvPr/>
        </p:nvSpPr>
        <p:spPr>
          <a:xfrm>
            <a:off x="2646360" y="1293840"/>
            <a:ext cx="4035600" cy="15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cover3"/>
          <p:cNvSpPr/>
          <p:nvPr/>
        </p:nvSpPr>
        <p:spPr>
          <a:xfrm>
            <a:off x="2646360" y="1293840"/>
            <a:ext cx="4035600" cy="15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cover2"/>
          <p:cNvSpPr/>
          <p:nvPr/>
        </p:nvSpPr>
        <p:spPr>
          <a:xfrm>
            <a:off x="2646360" y="1293840"/>
            <a:ext cx="4035600" cy="15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cover1"/>
          <p:cNvSpPr/>
          <p:nvPr/>
        </p:nvSpPr>
        <p:spPr>
          <a:xfrm>
            <a:off x="2646360" y="1293840"/>
            <a:ext cx="4035600" cy="15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RY"/>
          <p:cNvSpPr/>
          <p:nvPr/>
        </p:nvSpPr>
        <p:spPr>
          <a:xfrm>
            <a:off x="-4680" y="-7920"/>
            <a:ext cx="9144000" cy="6858000"/>
          </a:xfrm>
          <a:prstGeom prst="rect">
            <a:avLst/>
          </a:prstGeom>
          <a:solidFill>
            <a:srgbClr val="ff0000">
              <a:alpha val="4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No! Click to go 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OST">
            <a:hlinkClick r:id="" action="ppaction://hlinkshowjump?jump=previousslide"/>
          </p:cNvPr>
          <p:cNvSpPr/>
          <p:nvPr/>
        </p:nvSpPr>
        <p:spPr>
          <a:xfrm>
            <a:off x="0" y="-19080"/>
            <a:ext cx="9144000" cy="685800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YOU LOST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alibri"/>
              </a:rPr>
              <a:t>Click for another go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Quit">
            <a:hlinkClick r:id="" action="ppaction://hlinkshowjump?jump=endshow"/>
          </p:cNvPr>
          <p:cNvSpPr/>
          <p:nvPr/>
        </p:nvSpPr>
        <p:spPr>
          <a:xfrm>
            <a:off x="8501040" y="115920"/>
            <a:ext cx="293760" cy="277920"/>
          </a:xfrm>
          <a:custGeom>
            <a:avLst/>
            <a:gdLst>
              <a:gd name="textAreaLeft" fmla="*/ 18000 w 293760"/>
              <a:gd name="textAreaRight" fmla="*/ 275760 w 29376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22829" h="21600">
                <a:moveTo>
                  <a:pt x="0" y="0"/>
                </a:moveTo>
                <a:lnTo>
                  <a:pt x="22829" y="0"/>
                </a:lnTo>
                <a:lnTo>
                  <a:pt x="22829" y="21600"/>
                </a:lnTo>
                <a:lnTo>
                  <a:pt x="0" y="21600"/>
                </a:lnTo>
                <a:close/>
              </a:path>
              <a:path fill="lightenLess" w="22829" h="21600">
                <a:moveTo>
                  <a:pt x="0" y="0"/>
                </a:moveTo>
                <a:lnTo>
                  <a:pt x="22829" y="0"/>
                </a:lnTo>
                <a:lnTo>
                  <a:pt x="21430" y="1400"/>
                </a:lnTo>
                <a:lnTo>
                  <a:pt x="1400" y="1400"/>
                </a:lnTo>
                <a:close/>
              </a:path>
              <a:path fill="darken" w="22829" h="21600">
                <a:moveTo>
                  <a:pt x="22829" y="0"/>
                </a:moveTo>
                <a:lnTo>
                  <a:pt x="22829" y="21600"/>
                </a:lnTo>
                <a:lnTo>
                  <a:pt x="21430" y="20200"/>
                </a:lnTo>
                <a:lnTo>
                  <a:pt x="21430" y="1400"/>
                </a:lnTo>
                <a:close/>
              </a:path>
              <a:path fill="darkenLess" w="22829" h="21600">
                <a:moveTo>
                  <a:pt x="228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30" y="20200"/>
                </a:lnTo>
                <a:close/>
              </a:path>
              <a:path fill="lighten" w="228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HMwordD0"/>
          <p:cNvSpPr/>
          <p:nvPr/>
        </p:nvSpPr>
        <p:spPr>
          <a:xfrm>
            <a:off x="1143000" y="3805200"/>
            <a:ext cx="507960" cy="254160"/>
          </a:xfrm>
          <a:custGeom>
            <a:avLst/>
            <a:gdLst/>
            <a:ahLst/>
            <a:rect l="l" t="t" r="r" b="b"/>
            <a:pathLst>
              <a:path w="508000" h="254000">
                <a:moveTo>
                  <a:pt x="67335" y="97130"/>
                </a:moveTo>
                <a:lnTo>
                  <a:pt x="440665" y="97130"/>
                </a:lnTo>
                <a:lnTo>
                  <a:pt x="440665" y="156870"/>
                </a:lnTo>
                <a:lnTo>
                  <a:pt x="67335" y="156870"/>
                </a:lnTo>
                <a:lnTo>
                  <a:pt x="67335" y="971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HMwordL1"/>
          <p:cNvSpPr/>
          <p:nvPr/>
        </p:nvSpPr>
        <p:spPr>
          <a:xfrm>
            <a:off x="1143000" y="3297240"/>
            <a:ext cx="507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Calibri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HMwordD1"/>
          <p:cNvSpPr/>
          <p:nvPr/>
        </p:nvSpPr>
        <p:spPr>
          <a:xfrm>
            <a:off x="1600200" y="3805200"/>
            <a:ext cx="507960" cy="254160"/>
          </a:xfrm>
          <a:custGeom>
            <a:avLst/>
            <a:gdLst/>
            <a:ahLst/>
            <a:rect l="l" t="t" r="r" b="b"/>
            <a:pathLst>
              <a:path w="508000" h="254000">
                <a:moveTo>
                  <a:pt x="67335" y="97130"/>
                </a:moveTo>
                <a:lnTo>
                  <a:pt x="440665" y="97130"/>
                </a:lnTo>
                <a:lnTo>
                  <a:pt x="440665" y="156870"/>
                </a:lnTo>
                <a:lnTo>
                  <a:pt x="67335" y="156870"/>
                </a:lnTo>
                <a:lnTo>
                  <a:pt x="67335" y="971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HMwordL2"/>
          <p:cNvSpPr/>
          <p:nvPr/>
        </p:nvSpPr>
        <p:spPr>
          <a:xfrm>
            <a:off x="1600200" y="3297240"/>
            <a:ext cx="507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Calibri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HMwordD2"/>
          <p:cNvSpPr/>
          <p:nvPr/>
        </p:nvSpPr>
        <p:spPr>
          <a:xfrm>
            <a:off x="2057400" y="3805200"/>
            <a:ext cx="507960" cy="254160"/>
          </a:xfrm>
          <a:custGeom>
            <a:avLst/>
            <a:gdLst/>
            <a:ahLst/>
            <a:rect l="l" t="t" r="r" b="b"/>
            <a:pathLst>
              <a:path w="508000" h="254000">
                <a:moveTo>
                  <a:pt x="67335" y="97130"/>
                </a:moveTo>
                <a:lnTo>
                  <a:pt x="440665" y="97130"/>
                </a:lnTo>
                <a:lnTo>
                  <a:pt x="440665" y="156870"/>
                </a:lnTo>
                <a:lnTo>
                  <a:pt x="67335" y="156870"/>
                </a:lnTo>
                <a:lnTo>
                  <a:pt x="67335" y="971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HMwordL3"/>
          <p:cNvSpPr/>
          <p:nvPr/>
        </p:nvSpPr>
        <p:spPr>
          <a:xfrm>
            <a:off x="2057400" y="3297240"/>
            <a:ext cx="507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Calibri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HMwordD3"/>
          <p:cNvSpPr/>
          <p:nvPr/>
        </p:nvSpPr>
        <p:spPr>
          <a:xfrm>
            <a:off x="2514600" y="3805200"/>
            <a:ext cx="507960" cy="254160"/>
          </a:xfrm>
          <a:custGeom>
            <a:avLst/>
            <a:gdLst/>
            <a:ahLst/>
            <a:rect l="l" t="t" r="r" b="b"/>
            <a:pathLst>
              <a:path w="508000" h="254000">
                <a:moveTo>
                  <a:pt x="67335" y="97130"/>
                </a:moveTo>
                <a:lnTo>
                  <a:pt x="440665" y="97130"/>
                </a:lnTo>
                <a:lnTo>
                  <a:pt x="440665" y="156870"/>
                </a:lnTo>
                <a:lnTo>
                  <a:pt x="67335" y="156870"/>
                </a:lnTo>
                <a:lnTo>
                  <a:pt x="67335" y="971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HMwordL4"/>
          <p:cNvSpPr/>
          <p:nvPr/>
        </p:nvSpPr>
        <p:spPr>
          <a:xfrm>
            <a:off x="2514600" y="3297240"/>
            <a:ext cx="507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HMwordD4"/>
          <p:cNvSpPr/>
          <p:nvPr/>
        </p:nvSpPr>
        <p:spPr>
          <a:xfrm>
            <a:off x="2971800" y="3805200"/>
            <a:ext cx="507960" cy="254160"/>
          </a:xfrm>
          <a:custGeom>
            <a:avLst/>
            <a:gdLst/>
            <a:ahLst/>
            <a:rect l="l" t="t" r="r" b="b"/>
            <a:pathLst>
              <a:path w="508000" h="254000">
                <a:moveTo>
                  <a:pt x="67335" y="97130"/>
                </a:moveTo>
                <a:lnTo>
                  <a:pt x="440665" y="97130"/>
                </a:lnTo>
                <a:lnTo>
                  <a:pt x="440665" y="156870"/>
                </a:lnTo>
                <a:lnTo>
                  <a:pt x="67335" y="156870"/>
                </a:lnTo>
                <a:lnTo>
                  <a:pt x="67335" y="971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HMwordL5"/>
          <p:cNvSpPr/>
          <p:nvPr/>
        </p:nvSpPr>
        <p:spPr>
          <a:xfrm>
            <a:off x="2971800" y="3297240"/>
            <a:ext cx="507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Calibri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HMwordD5"/>
          <p:cNvSpPr/>
          <p:nvPr/>
        </p:nvSpPr>
        <p:spPr>
          <a:xfrm>
            <a:off x="3429000" y="3805200"/>
            <a:ext cx="507960" cy="254160"/>
          </a:xfrm>
          <a:custGeom>
            <a:avLst/>
            <a:gdLst/>
            <a:ahLst/>
            <a:rect l="l" t="t" r="r" b="b"/>
            <a:pathLst>
              <a:path w="508000" h="254000">
                <a:moveTo>
                  <a:pt x="67335" y="97130"/>
                </a:moveTo>
                <a:lnTo>
                  <a:pt x="440665" y="97130"/>
                </a:lnTo>
                <a:lnTo>
                  <a:pt x="440665" y="156870"/>
                </a:lnTo>
                <a:lnTo>
                  <a:pt x="67335" y="156870"/>
                </a:lnTo>
                <a:lnTo>
                  <a:pt x="67335" y="971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HMwordL6"/>
          <p:cNvSpPr/>
          <p:nvPr/>
        </p:nvSpPr>
        <p:spPr>
          <a:xfrm>
            <a:off x="3429000" y="3297240"/>
            <a:ext cx="507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Calibri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HMwordD6"/>
          <p:cNvSpPr/>
          <p:nvPr/>
        </p:nvSpPr>
        <p:spPr>
          <a:xfrm>
            <a:off x="3886200" y="3805200"/>
            <a:ext cx="507960" cy="254160"/>
          </a:xfrm>
          <a:custGeom>
            <a:avLst/>
            <a:gdLst/>
            <a:ahLst/>
            <a:rect l="l" t="t" r="r" b="b"/>
            <a:pathLst>
              <a:path w="508000" h="254000">
                <a:moveTo>
                  <a:pt x="67335" y="97130"/>
                </a:moveTo>
                <a:lnTo>
                  <a:pt x="440665" y="97130"/>
                </a:lnTo>
                <a:lnTo>
                  <a:pt x="440665" y="156870"/>
                </a:lnTo>
                <a:lnTo>
                  <a:pt x="67335" y="156870"/>
                </a:lnTo>
                <a:lnTo>
                  <a:pt x="67335" y="971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HMwordL7"/>
          <p:cNvSpPr/>
          <p:nvPr/>
        </p:nvSpPr>
        <p:spPr>
          <a:xfrm>
            <a:off x="3886200" y="3297240"/>
            <a:ext cx="507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Calibri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HMwordD7"/>
          <p:cNvSpPr/>
          <p:nvPr/>
        </p:nvSpPr>
        <p:spPr>
          <a:xfrm>
            <a:off x="4343400" y="3805200"/>
            <a:ext cx="507960" cy="254160"/>
          </a:xfrm>
          <a:custGeom>
            <a:avLst/>
            <a:gdLst/>
            <a:ahLst/>
            <a:rect l="l" t="t" r="r" b="b"/>
            <a:pathLst>
              <a:path w="508000" h="254000">
                <a:moveTo>
                  <a:pt x="67335" y="97130"/>
                </a:moveTo>
                <a:lnTo>
                  <a:pt x="440665" y="97130"/>
                </a:lnTo>
                <a:lnTo>
                  <a:pt x="440665" y="156870"/>
                </a:lnTo>
                <a:lnTo>
                  <a:pt x="67335" y="156870"/>
                </a:lnTo>
                <a:lnTo>
                  <a:pt x="67335" y="971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HMwordL8"/>
          <p:cNvSpPr/>
          <p:nvPr/>
        </p:nvSpPr>
        <p:spPr>
          <a:xfrm>
            <a:off x="4343400" y="3297240"/>
            <a:ext cx="507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Calibri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HMwordD8"/>
          <p:cNvSpPr/>
          <p:nvPr/>
        </p:nvSpPr>
        <p:spPr>
          <a:xfrm>
            <a:off x="4800600" y="3805200"/>
            <a:ext cx="507960" cy="254160"/>
          </a:xfrm>
          <a:custGeom>
            <a:avLst/>
            <a:gdLst/>
            <a:ahLst/>
            <a:rect l="l" t="t" r="r" b="b"/>
            <a:pathLst>
              <a:path w="508000" h="254000">
                <a:moveTo>
                  <a:pt x="67335" y="97130"/>
                </a:moveTo>
                <a:lnTo>
                  <a:pt x="440665" y="97130"/>
                </a:lnTo>
                <a:lnTo>
                  <a:pt x="440665" y="156870"/>
                </a:lnTo>
                <a:lnTo>
                  <a:pt x="67335" y="156870"/>
                </a:lnTo>
                <a:lnTo>
                  <a:pt x="67335" y="971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HMwordL9"/>
          <p:cNvSpPr/>
          <p:nvPr/>
        </p:nvSpPr>
        <p:spPr>
          <a:xfrm>
            <a:off x="4800600" y="3297240"/>
            <a:ext cx="507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Calibri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HMwordD9"/>
          <p:cNvSpPr/>
          <p:nvPr/>
        </p:nvSpPr>
        <p:spPr>
          <a:xfrm>
            <a:off x="5257800" y="3805200"/>
            <a:ext cx="507960" cy="254160"/>
          </a:xfrm>
          <a:custGeom>
            <a:avLst/>
            <a:gdLst/>
            <a:ahLst/>
            <a:rect l="l" t="t" r="r" b="b"/>
            <a:pathLst>
              <a:path w="508000" h="254000">
                <a:moveTo>
                  <a:pt x="67335" y="97130"/>
                </a:moveTo>
                <a:lnTo>
                  <a:pt x="440665" y="97130"/>
                </a:lnTo>
                <a:lnTo>
                  <a:pt x="440665" y="156870"/>
                </a:lnTo>
                <a:lnTo>
                  <a:pt x="67335" y="156870"/>
                </a:lnTo>
                <a:lnTo>
                  <a:pt x="67335" y="971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HMwordL10"/>
          <p:cNvSpPr/>
          <p:nvPr/>
        </p:nvSpPr>
        <p:spPr>
          <a:xfrm>
            <a:off x="5257800" y="3297240"/>
            <a:ext cx="507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Calibri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HMwordL11"/>
          <p:cNvSpPr/>
          <p:nvPr/>
        </p:nvSpPr>
        <p:spPr>
          <a:xfrm>
            <a:off x="5715000" y="3297240"/>
            <a:ext cx="507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HMwordD11"/>
          <p:cNvSpPr/>
          <p:nvPr/>
        </p:nvSpPr>
        <p:spPr>
          <a:xfrm>
            <a:off x="6172200" y="3805200"/>
            <a:ext cx="507960" cy="254160"/>
          </a:xfrm>
          <a:custGeom>
            <a:avLst/>
            <a:gdLst/>
            <a:ahLst/>
            <a:rect l="l" t="t" r="r" b="b"/>
            <a:pathLst>
              <a:path w="508000" h="254000">
                <a:moveTo>
                  <a:pt x="67335" y="97130"/>
                </a:moveTo>
                <a:lnTo>
                  <a:pt x="440665" y="97130"/>
                </a:lnTo>
                <a:lnTo>
                  <a:pt x="440665" y="156870"/>
                </a:lnTo>
                <a:lnTo>
                  <a:pt x="67335" y="156870"/>
                </a:lnTo>
                <a:lnTo>
                  <a:pt x="67335" y="971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HMwordL12"/>
          <p:cNvSpPr/>
          <p:nvPr/>
        </p:nvSpPr>
        <p:spPr>
          <a:xfrm>
            <a:off x="6172200" y="3297240"/>
            <a:ext cx="507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Calibri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HMwordD12"/>
          <p:cNvSpPr/>
          <p:nvPr/>
        </p:nvSpPr>
        <p:spPr>
          <a:xfrm>
            <a:off x="6629400" y="3805200"/>
            <a:ext cx="507960" cy="254160"/>
          </a:xfrm>
          <a:custGeom>
            <a:avLst/>
            <a:gdLst/>
            <a:ahLst/>
            <a:rect l="l" t="t" r="r" b="b"/>
            <a:pathLst>
              <a:path w="508000" h="254000">
                <a:moveTo>
                  <a:pt x="67335" y="97130"/>
                </a:moveTo>
                <a:lnTo>
                  <a:pt x="440665" y="97130"/>
                </a:lnTo>
                <a:lnTo>
                  <a:pt x="440665" y="156870"/>
                </a:lnTo>
                <a:lnTo>
                  <a:pt x="67335" y="156870"/>
                </a:lnTo>
                <a:lnTo>
                  <a:pt x="67335" y="971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HMwordL13"/>
          <p:cNvSpPr/>
          <p:nvPr/>
        </p:nvSpPr>
        <p:spPr>
          <a:xfrm>
            <a:off x="6629400" y="3297240"/>
            <a:ext cx="507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Calibri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HMwordD13"/>
          <p:cNvSpPr/>
          <p:nvPr/>
        </p:nvSpPr>
        <p:spPr>
          <a:xfrm>
            <a:off x="7086600" y="3805200"/>
            <a:ext cx="507960" cy="254160"/>
          </a:xfrm>
          <a:custGeom>
            <a:avLst/>
            <a:gdLst/>
            <a:ahLst/>
            <a:rect l="l" t="t" r="r" b="b"/>
            <a:pathLst>
              <a:path w="508000" h="254000">
                <a:moveTo>
                  <a:pt x="67335" y="97130"/>
                </a:moveTo>
                <a:lnTo>
                  <a:pt x="440665" y="97130"/>
                </a:lnTo>
                <a:lnTo>
                  <a:pt x="440665" y="156870"/>
                </a:lnTo>
                <a:lnTo>
                  <a:pt x="67335" y="156870"/>
                </a:lnTo>
                <a:lnTo>
                  <a:pt x="67335" y="971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HMwordL14"/>
          <p:cNvSpPr/>
          <p:nvPr/>
        </p:nvSpPr>
        <p:spPr>
          <a:xfrm>
            <a:off x="7086600" y="3297240"/>
            <a:ext cx="507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Calibri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HMwordD14"/>
          <p:cNvSpPr/>
          <p:nvPr/>
        </p:nvSpPr>
        <p:spPr>
          <a:xfrm>
            <a:off x="7543800" y="3805200"/>
            <a:ext cx="507960" cy="254160"/>
          </a:xfrm>
          <a:custGeom>
            <a:avLst/>
            <a:gdLst/>
            <a:ahLst/>
            <a:rect l="l" t="t" r="r" b="b"/>
            <a:pathLst>
              <a:path w="508000" h="254000">
                <a:moveTo>
                  <a:pt x="67335" y="97130"/>
                </a:moveTo>
                <a:lnTo>
                  <a:pt x="440665" y="97130"/>
                </a:lnTo>
                <a:lnTo>
                  <a:pt x="440665" y="156870"/>
                </a:lnTo>
                <a:lnTo>
                  <a:pt x="67335" y="156870"/>
                </a:lnTo>
                <a:lnTo>
                  <a:pt x="67335" y="971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HMwordL15"/>
          <p:cNvSpPr/>
          <p:nvPr/>
        </p:nvSpPr>
        <p:spPr>
          <a:xfrm>
            <a:off x="7543800" y="3297240"/>
            <a:ext cx="507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8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autoRev="1" nodeType="withEffect" fill="hold" presetClass="path" presetID="4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0.03889 L -2.77778E-007 -4.81481E-006 E">
                                      <p:cBhvr>
                                        <p:cTn id="105" dur="5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08:20:24Z</dcterms:created>
  <dc:creator>John sr cwilson</dc:creator>
  <dc:description/>
  <dc:language>en-US</dc:language>
  <cp:lastModifiedBy>John sr cwilson</cp:lastModifiedBy>
  <dcterms:modified xsi:type="dcterms:W3CDTF">2011-01-03T08:23:23Z</dcterms:modified>
  <cp:revision>3</cp:revision>
  <dc:subject/>
  <dc:title>PowerPoint Presentation</dc:title>
</cp:coreProperties>
</file>