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018-2351-4EA4-9400-576FCBD1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97C-CF84-443C-B10E-784D8E7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5FC-8C3F-4157-AF2D-6B105193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86F-D1C5-4214-BB67-D6865D7C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4B7-9AD9-40B7-9E1C-AC5B69F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DB9-88FE-461C-AD37-E12CA28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53F-0C8C-4AAF-8A9D-5A578B5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820-D9D0-4C73-BB06-790F07AD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64E-885E-4E80-B168-B04A2DA5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8F1-E11D-433E-80B5-8353A8C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6C5-E851-4E90-9037-A671106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036-00A0-4EB0-82A5-3FFE4F9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A82-D39D-4F6F-A14E-4662E4ED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90800" y="1619280"/>
            <a:ext cx="1562400" cy="36194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4540320" y="1668600"/>
            <a:ext cx="647640" cy="576000"/>
          </a:xfrm>
          <a:prstGeom prst="ellipse">
            <a:avLst/>
          </a:prstGeom>
          <a:solidFill>
            <a:srgbClr val="ff33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90800" y="1619280"/>
            <a:ext cx="1562400" cy="36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40320" y="1668600"/>
            <a:ext cx="647640" cy="576000"/>
          </a:xfrm>
          <a:prstGeom prst="ellipse">
            <a:avLst/>
          </a:prstGeom>
          <a:solidFill>
            <a:srgbClr val="ff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606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8:51:40Z</dcterms:created>
  <dc:creator>John Wilson</dc:creator>
  <dc:description/>
  <dc:language>en-US</dc:language>
  <cp:lastModifiedBy>John Wilson</cp:lastModifiedBy>
  <dcterms:modified xsi:type="dcterms:W3CDTF">2007-07-23T08:56:57Z</dcterms:modified>
  <cp:revision>1</cp:revision>
  <dc:subject/>
  <dc:title>Slide 1</dc:title>
</cp:coreProperties>
</file>