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CAF-5DCD-4E06-890D-F67CDFE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097-507E-47D4-9B59-D57962B4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341-D6F6-4904-871B-9A6FFDC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4AF-E6C2-4436-9A0A-D9DB057C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DDC-B8F0-455C-B1ED-FBCA8C3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FDC-DC8F-4EA7-87B9-C3B40C0C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8F1-569A-4C9F-86B5-AB477D7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2DB-8FAE-4C80-BCF9-BC1EEC86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C0E-3E42-43CF-BE14-EA42D67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F39-DF43-4C20-AAAB-8638C2A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A7B-A483-4658-9E56-AA9543F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675-C0A0-4C15-A2C7-076F0F5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F6AB-5E59-4E2C-B95A-B6EA025A0D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ptalchemy.co.uk/Esheets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214200" y="285840"/>
            <a:ext cx="2214720" cy="2143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071800" y="407196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more info check out the Esheets at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PTAlchemy.co.uk/Esheet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" fill="hold"/>
                                        <p:tgtEl>
                                          <p:spTgt spid="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3873E-006 L 0.58386 0.30173 E">
                                      <p:cBhvr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00:16Z</dcterms:created>
  <dc:creator>John Wilson</dc:creator>
  <dc:description/>
  <dc:language>en-US</dc:language>
  <cp:lastModifiedBy>John Wilson</cp:lastModifiedBy>
  <dcterms:modified xsi:type="dcterms:W3CDTF">2008-01-11T12:08:30Z</dcterms:modified>
  <cp:revision>1</cp:revision>
  <dc:subject/>
  <dc:title>Slide 1</dc:title>
</cp:coreProperties>
</file>