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85D-B6EB-48AF-8289-3515642A56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AA69-566E-4993-A3F0-3FCBC523CE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3D5F-83DA-4F4E-9956-4816B8137C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346-2B0D-41AA-88BF-95E1B7EB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FAC-C7B8-42D6-82AE-93F4BBC9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6C8-5128-4F4C-8A97-A11C078A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65A-306C-4FDE-B9EC-1926E54E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EC3-9791-43F7-9B42-35E9E1B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52F-6A7D-4D43-A7B6-0E9D4C4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55F-1222-4B90-9CF8-B3B4AB45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E9D-5D8E-4DE5-8E99-7615C44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0A4-F80C-49E9-AB7D-DF68E0C6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DB2-E980-4608-BBF0-05D163AC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FAC-A865-4CDA-A68A-E96309C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356-895F-4DA0-81E7-4EC263B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A4D0-A788-4CD3-A5B6-B00F58BB5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www.PPTAlchemy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0A9B-D90A-49BB-A7C5-05BE8463BD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8"/>
          <p:cNvSpPr/>
          <p:nvPr/>
        </p:nvSpPr>
        <p:spPr>
          <a:xfrm>
            <a:off x="2786040" y="6580080"/>
            <a:ext cx="3643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Animated Photo Album -www.PPTAlchemy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176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93CE-AEBA-4239-AEE2-405FD8CD6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607212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29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32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35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38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41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Next">
            <a:hlinkClick r:id="" action="ppaction://hlinkshowjump?jump=nextslide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47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50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53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56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59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Next">
            <a:hlinkClick r:id="" action="ppaction://hlinkshowjump?jump=endshow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End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evious">
            <a:hlinkClick r:id="" action="ppaction://hlinkshowjump?jump=previousslide"/>
          </p:cNvPr>
          <p:cNvSpPr/>
          <p:nvPr/>
        </p:nvSpPr>
        <p:spPr>
          <a:xfrm>
            <a:off x="210996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Previous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00:22Z</dcterms:created>
  <dc:creator>John</dc:creator>
  <dc:description/>
  <dc:language>en-US</dc:language>
  <cp:lastModifiedBy>John Wilson</cp:lastModifiedBy>
  <dcterms:modified xsi:type="dcterms:W3CDTF">2007-11-18T13:46:17Z</dcterms:modified>
  <cp:revision>57</cp:revision>
  <dc:subject/>
  <dc:title>Slide 1</dc:title>
</cp:coreProperties>
</file>