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73B4-1048-4671-BD5E-E2ADB30FE39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F3CD-446F-44E3-B6E9-8210BC49A0E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CFEB-12C9-4391-82F3-BC0E8BC34A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3DEF-0F21-4DA4-9D05-55652804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3B69-5959-4248-9EF6-D158156B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A677-EEFB-4E5E-BC6E-DA5CAA82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DEAD-B6E9-4CF0-8BB2-AA8AAB15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B50E-7CDA-4C8A-A7A9-7DCCBF76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6344-6268-4D0D-AFBA-A0440D85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0327-55FC-4704-B307-E7010627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C6B8-9882-49AE-9C1D-22CC38E4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F2B3-6624-41A6-97C1-21CCD5FA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1016-AF26-4AD1-90A1-3085A4A7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DF3-7E25-4B96-8C0D-767A14BE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EEA8-9480-4353-A981-2362C8F0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23137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A476-C66E-4C96-BF84-FC9B1ECE94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www.PPTAlchemy.co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9E8B-3F08-4B1B-950A-45AA94C7788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23137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18"/>
          <p:cNvSpPr/>
          <p:nvPr/>
        </p:nvSpPr>
        <p:spPr>
          <a:xfrm>
            <a:off x="2786040" y="6580080"/>
            <a:ext cx="36432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Arial"/>
              </a:rPr>
              <a:t>Animated Photo Album -www.PPTAlchemy.co.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176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23137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E0B1-ED0C-4BB9-9398-9C32C1B71D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6072120" y="62866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pic5"/>
          <p:cNvGrpSpPr/>
          <p:nvPr/>
        </p:nvGrpSpPr>
        <p:grpSpPr>
          <a:xfrm>
            <a:off x="-7850160" y="909720"/>
            <a:ext cx="15656040" cy="11920320"/>
            <a:chOff x="-7850160" y="909720"/>
            <a:chExt cx="15656040" cy="11920320"/>
          </a:xfrm>
        </p:grpSpPr>
        <p:sp>
          <p:nvSpPr>
            <p:cNvPr id="129" name="Bevel 9"/>
            <p:cNvSpPr/>
            <p:nvPr/>
          </p:nvSpPr>
          <p:spPr>
            <a:xfrm>
              <a:off x="1325520" y="909720"/>
              <a:ext cx="648036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-7850160" y="597204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pic4"/>
          <p:cNvGrpSpPr/>
          <p:nvPr/>
        </p:nvGrpSpPr>
        <p:grpSpPr>
          <a:xfrm>
            <a:off x="-7850160" y="928800"/>
            <a:ext cx="15656040" cy="8461440"/>
            <a:chOff x="-7850160" y="928800"/>
            <a:chExt cx="15656040" cy="8461440"/>
          </a:xfrm>
        </p:grpSpPr>
        <p:sp>
          <p:nvSpPr>
            <p:cNvPr id="132" name="Bevel 28"/>
            <p:cNvSpPr/>
            <p:nvPr/>
          </p:nvSpPr>
          <p:spPr>
            <a:xfrm>
              <a:off x="1325520" y="928800"/>
              <a:ext cx="648036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-7850160" y="253224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pic3"/>
          <p:cNvGrpSpPr/>
          <p:nvPr/>
        </p:nvGrpSpPr>
        <p:grpSpPr>
          <a:xfrm>
            <a:off x="-7850160" y="0"/>
            <a:ext cx="15656040" cy="6858000"/>
            <a:chOff x="-7850160" y="0"/>
            <a:chExt cx="15656040" cy="6858000"/>
          </a:xfrm>
        </p:grpSpPr>
        <p:sp>
          <p:nvSpPr>
            <p:cNvPr id="135" name="Bevel 12"/>
            <p:cNvSpPr/>
            <p:nvPr/>
          </p:nvSpPr>
          <p:spPr>
            <a:xfrm>
              <a:off x="1325520" y="928440"/>
              <a:ext cx="648036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3"/>
            <p:cNvSpPr/>
            <p:nvPr/>
          </p:nvSpPr>
          <p:spPr>
            <a:xfrm>
              <a:off x="-785016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pic2"/>
          <p:cNvGrpSpPr/>
          <p:nvPr/>
        </p:nvGrpSpPr>
        <p:grpSpPr>
          <a:xfrm>
            <a:off x="-7850160" y="-2511360"/>
            <a:ext cx="15644880" cy="8478720"/>
            <a:chOff x="-7850160" y="-2511360"/>
            <a:chExt cx="15644880" cy="8478720"/>
          </a:xfrm>
        </p:grpSpPr>
        <p:sp>
          <p:nvSpPr>
            <p:cNvPr id="138" name="Bevel 15"/>
            <p:cNvSpPr/>
            <p:nvPr/>
          </p:nvSpPr>
          <p:spPr>
            <a:xfrm>
              <a:off x="1314720" y="927000"/>
              <a:ext cx="648000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6"/>
            <p:cNvSpPr/>
            <p:nvPr/>
          </p:nvSpPr>
          <p:spPr>
            <a:xfrm>
              <a:off x="-7850160" y="-251136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pic1"/>
          <p:cNvGrpSpPr/>
          <p:nvPr/>
        </p:nvGrpSpPr>
        <p:grpSpPr>
          <a:xfrm>
            <a:off x="-7850160" y="-5945040"/>
            <a:ext cx="15644880" cy="11893320"/>
            <a:chOff x="-7850160" y="-5945040"/>
            <a:chExt cx="15644880" cy="11893320"/>
          </a:xfrm>
        </p:grpSpPr>
        <p:sp>
          <p:nvSpPr>
            <p:cNvPr id="141" name="Bevel 3"/>
            <p:cNvSpPr/>
            <p:nvPr/>
          </p:nvSpPr>
          <p:spPr>
            <a:xfrm>
              <a:off x="1314720" y="907920"/>
              <a:ext cx="648000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"/>
            <p:cNvSpPr/>
            <p:nvPr/>
          </p:nvSpPr>
          <p:spPr>
            <a:xfrm>
              <a:off x="-7850160" y="-594504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31"/>
          <p:cNvSpPr/>
          <p:nvPr/>
        </p:nvSpPr>
        <p:spPr>
          <a:xfrm>
            <a:off x="3745080" y="6072120"/>
            <a:ext cx="1643040" cy="4651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2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5b3d7"/>
                </a:solidFill>
                <a:latin typeface="Calibri"/>
              </a:rPr>
              <a:t>Change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286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My Alb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Next">
            <a:hlinkClick r:id="" action="ppaction://hlinkshowjump?jump=nextslide"/>
          </p:cNvPr>
          <p:cNvSpPr/>
          <p:nvPr/>
        </p:nvSpPr>
        <p:spPr>
          <a:xfrm>
            <a:off x="5388120" y="6072120"/>
            <a:ext cx="1643040" cy="4651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2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5b3d7"/>
                </a:solidFill>
                <a:latin typeface="Calibri"/>
              </a:rPr>
              <a:t>Next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" fill="hold"/>
                                        <p:tgtEl>
                                          <p:spTgt spid="140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10" fill="hold"/>
                                        <p:tgtEl>
                                          <p:spTgt spid="137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10" fill="hold"/>
                                        <p:tgtEl>
                                          <p:spTgt spid="134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10" fill="hold"/>
                                        <p:tgtEl>
                                          <p:spTgt spid="131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10" fill="hold"/>
                                        <p:tgtEl>
                                          <p:spTgt spid="128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"/>
                            </p:stCondLst>
                            <p:childTnLst>
                              <p:par>
                                <p:cTn id="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10" fill="hold"/>
                                        <p:tgtEl>
                                          <p:spTgt spid="140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3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"/>
                            </p:stCondLst>
                            <p:childTnLst>
                              <p:par>
                                <p:cTn id="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300" fill="hold"/>
                                        <p:tgtEl>
                                          <p:spTgt spid="137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3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"/>
                            </p:stCondLst>
                            <p:childTnLst>
                              <p:par>
                                <p:cTn id="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300" fill="hold"/>
                                        <p:tgtEl>
                                          <p:spTgt spid="134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3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"/>
                            </p:stCondLst>
                            <p:childTnLst>
                              <p:par>
                                <p:cTn id="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" fill="hold"/>
                                        <p:tgtEl>
                                          <p:spTgt spid="131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3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"/>
                            </p:stCondLst>
                            <p:childTnLst>
                              <p:par>
                                <p:cTn id="6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300" fill="hold"/>
                                        <p:tgtEl>
                                          <p:spTgt spid="128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3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"/>
                            </p:stCondLst>
                            <p:childTnLst>
                              <p:par>
                                <p:cTn id="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300" fill="hold"/>
                                        <p:tgtEl>
                                          <p:spTgt spid="140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pic5"/>
          <p:cNvGrpSpPr/>
          <p:nvPr/>
        </p:nvGrpSpPr>
        <p:grpSpPr>
          <a:xfrm>
            <a:off x="-7850160" y="909720"/>
            <a:ext cx="15656040" cy="11920320"/>
            <a:chOff x="-7850160" y="909720"/>
            <a:chExt cx="15656040" cy="11920320"/>
          </a:xfrm>
        </p:grpSpPr>
        <p:sp>
          <p:nvSpPr>
            <p:cNvPr id="147" name="Bevel 9"/>
            <p:cNvSpPr/>
            <p:nvPr/>
          </p:nvSpPr>
          <p:spPr>
            <a:xfrm>
              <a:off x="1325520" y="909720"/>
              <a:ext cx="648036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0"/>
            <p:cNvSpPr/>
            <p:nvPr/>
          </p:nvSpPr>
          <p:spPr>
            <a:xfrm>
              <a:off x="-7850160" y="597204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pic4"/>
          <p:cNvGrpSpPr/>
          <p:nvPr/>
        </p:nvGrpSpPr>
        <p:grpSpPr>
          <a:xfrm>
            <a:off x="-7850160" y="928800"/>
            <a:ext cx="15656040" cy="8461440"/>
            <a:chOff x="-7850160" y="928800"/>
            <a:chExt cx="15656040" cy="8461440"/>
          </a:xfrm>
        </p:grpSpPr>
        <p:sp>
          <p:nvSpPr>
            <p:cNvPr id="150" name="Bevel 28"/>
            <p:cNvSpPr/>
            <p:nvPr/>
          </p:nvSpPr>
          <p:spPr>
            <a:xfrm>
              <a:off x="1325520" y="928800"/>
              <a:ext cx="648036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9"/>
            <p:cNvSpPr/>
            <p:nvPr/>
          </p:nvSpPr>
          <p:spPr>
            <a:xfrm>
              <a:off x="-7850160" y="253224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pic3"/>
          <p:cNvGrpSpPr/>
          <p:nvPr/>
        </p:nvGrpSpPr>
        <p:grpSpPr>
          <a:xfrm>
            <a:off x="-7850160" y="0"/>
            <a:ext cx="15656040" cy="6858000"/>
            <a:chOff x="-7850160" y="0"/>
            <a:chExt cx="15656040" cy="6858000"/>
          </a:xfrm>
        </p:grpSpPr>
        <p:sp>
          <p:nvSpPr>
            <p:cNvPr id="153" name="Bevel 12"/>
            <p:cNvSpPr/>
            <p:nvPr/>
          </p:nvSpPr>
          <p:spPr>
            <a:xfrm>
              <a:off x="1325520" y="928440"/>
              <a:ext cx="648036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3"/>
            <p:cNvSpPr/>
            <p:nvPr/>
          </p:nvSpPr>
          <p:spPr>
            <a:xfrm>
              <a:off x="-785016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pic2"/>
          <p:cNvGrpSpPr/>
          <p:nvPr/>
        </p:nvGrpSpPr>
        <p:grpSpPr>
          <a:xfrm>
            <a:off x="-7850160" y="-2511360"/>
            <a:ext cx="15644880" cy="8478720"/>
            <a:chOff x="-7850160" y="-2511360"/>
            <a:chExt cx="15644880" cy="8478720"/>
          </a:xfrm>
        </p:grpSpPr>
        <p:sp>
          <p:nvSpPr>
            <p:cNvPr id="156" name="Bevel 15"/>
            <p:cNvSpPr/>
            <p:nvPr/>
          </p:nvSpPr>
          <p:spPr>
            <a:xfrm>
              <a:off x="1314720" y="927000"/>
              <a:ext cx="648000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6"/>
            <p:cNvSpPr/>
            <p:nvPr/>
          </p:nvSpPr>
          <p:spPr>
            <a:xfrm>
              <a:off x="-7850160" y="-251136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pic1"/>
          <p:cNvGrpSpPr/>
          <p:nvPr/>
        </p:nvGrpSpPr>
        <p:grpSpPr>
          <a:xfrm>
            <a:off x="-7850160" y="-5945040"/>
            <a:ext cx="15644880" cy="11893320"/>
            <a:chOff x="-7850160" y="-5945040"/>
            <a:chExt cx="15644880" cy="11893320"/>
          </a:xfrm>
        </p:grpSpPr>
        <p:sp>
          <p:nvSpPr>
            <p:cNvPr id="159" name="Bevel 3"/>
            <p:cNvSpPr/>
            <p:nvPr/>
          </p:nvSpPr>
          <p:spPr>
            <a:xfrm>
              <a:off x="1314720" y="907920"/>
              <a:ext cx="648000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-7850160" y="-594504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31"/>
          <p:cNvSpPr/>
          <p:nvPr/>
        </p:nvSpPr>
        <p:spPr>
          <a:xfrm>
            <a:off x="3745080" y="6072120"/>
            <a:ext cx="1643040" cy="4651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2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5b3d7"/>
                </a:solidFill>
                <a:latin typeface="Calibri"/>
              </a:rPr>
              <a:t>Change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286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My Alb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Next">
            <a:hlinkClick r:id="" action="ppaction://hlinkshowjump?jump=endshow"/>
          </p:cNvPr>
          <p:cNvSpPr/>
          <p:nvPr/>
        </p:nvSpPr>
        <p:spPr>
          <a:xfrm>
            <a:off x="5388120" y="6072120"/>
            <a:ext cx="1643040" cy="4651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2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5b3d7"/>
                </a:solidFill>
                <a:latin typeface="Calibri"/>
              </a:rPr>
              <a:t>End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revious">
            <a:hlinkClick r:id="" action="ppaction://hlinkshowjump?jump=previousslide"/>
          </p:cNvPr>
          <p:cNvSpPr/>
          <p:nvPr/>
        </p:nvSpPr>
        <p:spPr>
          <a:xfrm>
            <a:off x="2109960" y="6072120"/>
            <a:ext cx="1643040" cy="4651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2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5b3d7"/>
                </a:solidFill>
                <a:latin typeface="Calibri"/>
              </a:rPr>
              <a:t>Previous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10" fill="hold"/>
                                        <p:tgtEl>
                                          <p:spTgt spid="158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10" fill="hold"/>
                                        <p:tgtEl>
                                          <p:spTgt spid="155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10" fill="hold"/>
                                        <p:tgtEl>
                                          <p:spTgt spid="152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10" fill="hold"/>
                                        <p:tgtEl>
                                          <p:spTgt spid="149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10" fill="hold"/>
                                        <p:tgtEl>
                                          <p:spTgt spid="146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"/>
                            </p:stCondLst>
                            <p:childTnLst>
                              <p:par>
                                <p:cTn id="10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10" fill="hold"/>
                                        <p:tgtEl>
                                          <p:spTgt spid="158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3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"/>
                            </p:stCondLst>
                            <p:childTnLst>
                              <p:par>
                                <p:cTn id="1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300" fill="hold"/>
                                        <p:tgtEl>
                                          <p:spTgt spid="155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3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"/>
                            </p:stCondLst>
                            <p:childTnLst>
                              <p:par>
                                <p:cTn id="1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300" fill="hold"/>
                                        <p:tgtEl>
                                          <p:spTgt spid="152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3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"/>
                            </p:stCondLst>
                            <p:childTnLst>
                              <p:par>
                                <p:cTn id="1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300" fill="hold"/>
                                        <p:tgtEl>
                                          <p:spTgt spid="149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3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"/>
                            </p:stCondLst>
                            <p:childTnLst>
                              <p:par>
                                <p:cTn id="1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" dur="300" fill="hold"/>
                                        <p:tgtEl>
                                          <p:spTgt spid="146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3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"/>
                            </p:stCondLst>
                            <p:childTnLst>
                              <p:par>
                                <p:cTn id="1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300" fill="hold"/>
                                        <p:tgtEl>
                                          <p:spTgt spid="158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7:00:22Z</dcterms:created>
  <dc:creator>John</dc:creator>
  <dc:description/>
  <dc:language>en-US</dc:language>
  <cp:lastModifiedBy>John Wilson</cp:lastModifiedBy>
  <dcterms:modified xsi:type="dcterms:W3CDTF">2007-11-18T13:46:17Z</dcterms:modified>
  <cp:revision>57</cp:revision>
  <dc:subject/>
  <dc:title>Slide 1</dc:title>
</cp:coreProperties>
</file>