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843-D070-4066-B656-F0E9999F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C6B-6AD6-4C6D-8DF2-A880E49C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1DF-776B-48EC-B9F7-1B3BFC7A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CBA-2E30-48F6-9371-6191D024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097-7739-49C1-B44D-BFC59CF9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07C-1938-4FD4-A755-9DD46F9A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AA8-3F98-4BEA-ADC9-69B770A5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C20-2CF9-4783-A45E-4D747EC0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25C-FF5A-4887-8A0F-DF45D07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888-878E-4FD5-B4F7-222D0575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B6D-92B2-4CA9-92CD-F226A141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CF6-E0E7-4781-8350-6575BA6E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A7F5-A281-4D86-BE5D-C4B31BF52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-27000"/>
            <a:ext cx="3456000" cy="345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9e0000">
                  <a:alpha val="0"/>
                </a:srgbClr>
              </a:gs>
              <a:gs pos="100000">
                <a:srgbClr val="480000">
                  <a:alpha val="75294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72360" y="0"/>
            <a:ext cx="1871640" cy="1728720"/>
          </a:xfrm>
          <a:prstGeom prst="ellipse">
            <a:avLst/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3429000"/>
            <a:ext cx="3456000" cy="345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342900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9e0000">
                  <a:alpha val="0"/>
                </a:srgbClr>
              </a:gs>
              <a:gs pos="100000">
                <a:srgbClr val="480000">
                  <a:alpha val="75294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3429000"/>
            <a:ext cx="1871640" cy="1728720"/>
          </a:xfrm>
          <a:prstGeom prst="ellipse">
            <a:avLst/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75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6:50:27Z</dcterms:created>
  <dc:creator>John Wilson</dc:creator>
  <dc:description/>
  <dc:language>en-US</dc:language>
  <cp:lastModifiedBy>John Wilson</cp:lastModifiedBy>
  <dcterms:modified xsi:type="dcterms:W3CDTF">2007-10-31T12:03:56Z</dcterms:modified>
  <cp:revision>2</cp:revision>
  <dc:subject/>
  <dc:title>Slide 1</dc:title>
</cp:coreProperties>
</file>